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0C85-A7EB-4744-B268-160C957F2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7F34-CCF0-4B5A-8B50-3BF07439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DE71-ED09-4ABE-A325-DCC9A6040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AFFD-6F0A-46F5-8CE8-D75D645B7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BB3A-E168-4D1A-BFE1-4C13E20A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82BF-1B77-4832-BCC2-D16CD127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C324-BFEF-40DD-A26A-2AE76C8C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ECD8-768E-4558-A51E-8C44E728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0BEC-85FE-48DF-BBA8-15AA7F6E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7486-03C9-45E9-8BF4-9395783C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F468-A542-4E4F-BE5A-706596ED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805C-F21F-4849-8C33-867B35E2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3ACD-E240-4E84-A02D-E07B04B0C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segm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655720" y="2003400"/>
            <a:ext cx="249480" cy="711360"/>
          </a:xfrm>
          <a:custGeom>
            <a:avLst/>
            <a:gdLst/>
            <a:ahLst/>
            <a:rect l="l" t="t" r="r" b="b"/>
            <a:pathLst>
              <a:path w="157" h="448">
                <a:moveTo>
                  <a:pt x="0" y="0"/>
                </a:moveTo>
                <a:lnTo>
                  <a:pt x="157" y="4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2104920"/>
            <a:ext cx="495360" cy="343080"/>
          </a:xfrm>
          <a:custGeom>
            <a:avLst/>
            <a:gdLst/>
            <a:ahLst/>
            <a:rect l="l" t="t" r="r" b="b"/>
            <a:pathLst>
              <a:path w="312" h="216">
                <a:moveTo>
                  <a:pt x="312" y="0"/>
                </a:moveTo>
                <a:lnTo>
                  <a:pt x="0" y="21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4000" y="21556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67200" y="337176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18040" y="334152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0"/>
                </a:moveTo>
                <a:lnTo>
                  <a:pt x="0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8000" y="32940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24120" y="3562200"/>
            <a:ext cx="824040" cy="52884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3343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87640" y="371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81480" y="2085840"/>
            <a:ext cx="361800" cy="495360"/>
          </a:xfrm>
          <a:custGeom>
            <a:avLst/>
            <a:gdLst/>
            <a:ahLst/>
            <a:rect l="l" t="t" r="r" b="b"/>
            <a:pathLst>
              <a:path w="228" h="312">
                <a:moveTo>
                  <a:pt x="0" y="0"/>
                </a:moveTo>
                <a:lnTo>
                  <a:pt x="228" y="31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28840" y="1876320"/>
            <a:ext cx="371520" cy="505080"/>
          </a:xfrm>
          <a:custGeom>
            <a:avLst/>
            <a:gdLst/>
            <a:ahLst/>
            <a:rect l="l" t="t" r="r" b="b"/>
            <a:pathLst>
              <a:path w="234" h="318">
                <a:moveTo>
                  <a:pt x="0" y="0"/>
                </a:moveTo>
                <a:lnTo>
                  <a:pt x="234" y="31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2060640"/>
            <a:ext cx="199800" cy="282600"/>
          </a:xfrm>
          <a:custGeom>
            <a:avLst/>
            <a:gdLst/>
            <a:ahLst/>
            <a:rect l="l" t="t" r="r" b="b"/>
            <a:pathLst>
              <a:path w="126" h="178">
                <a:moveTo>
                  <a:pt x="0" y="0"/>
                </a:moveTo>
                <a:lnTo>
                  <a:pt x="126" y="17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57680" y="2141640"/>
            <a:ext cx="262080" cy="538200"/>
          </a:xfrm>
          <a:custGeom>
            <a:avLst/>
            <a:gdLst/>
            <a:ahLst/>
            <a:rect l="l" t="t" r="r" b="b"/>
            <a:pathLst>
              <a:path w="165" h="339">
                <a:moveTo>
                  <a:pt x="0" y="0"/>
                </a:moveTo>
                <a:lnTo>
                  <a:pt x="165" y="33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98880" y="1932120"/>
            <a:ext cx="982800" cy="669960"/>
          </a:xfrm>
          <a:custGeom>
            <a:avLst/>
            <a:gdLst/>
            <a:ahLst/>
            <a:rect l="l" t="t" r="r" b="b"/>
            <a:pathLst>
              <a:path w="619" h="422">
                <a:moveTo>
                  <a:pt x="619" y="0"/>
                </a:moveTo>
                <a:lnTo>
                  <a:pt x="0" y="4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92520" y="20685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91120" y="4514760"/>
            <a:ext cx="447840" cy="590760"/>
          </a:xfrm>
          <a:custGeom>
            <a:avLst/>
            <a:gdLst/>
            <a:ahLst/>
            <a:rect l="l" t="t" r="r" b="b"/>
            <a:pathLst>
              <a:path w="282" h="372">
                <a:moveTo>
                  <a:pt x="0" y="0"/>
                </a:moveTo>
                <a:lnTo>
                  <a:pt x="282" y="37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34080" y="4638600"/>
            <a:ext cx="723960" cy="352440"/>
          </a:xfrm>
          <a:custGeom>
            <a:avLst/>
            <a:gdLst/>
            <a:ahLst/>
            <a:rect l="l" t="t" r="r" b="b"/>
            <a:pathLst>
              <a:path w="456" h="222">
                <a:moveTo>
                  <a:pt x="456" y="0"/>
                </a:moveTo>
                <a:lnTo>
                  <a:pt x="0" y="2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46292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00520" y="4532400"/>
            <a:ext cx="82368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43360" y="4567320"/>
            <a:ext cx="633240" cy="395280"/>
          </a:xfrm>
          <a:custGeom>
            <a:avLst/>
            <a:gdLst/>
            <a:ahLst/>
            <a:rect l="l" t="t" r="r" b="b"/>
            <a:pathLst>
              <a:path w="399" h="249">
                <a:moveTo>
                  <a:pt x="0" y="0"/>
                </a:moveTo>
                <a:lnTo>
                  <a:pt x="399" y="2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68680" y="460548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05320" y="4562640"/>
            <a:ext cx="82404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18040" y="49179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71840" y="45244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13360" y="3160800"/>
            <a:ext cx="171360" cy="79992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29320" y="32846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08840" y="3224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35733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48280" y="188748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64240" y="2011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2033640"/>
            <a:ext cx="399960" cy="304920"/>
          </a:xfrm>
          <a:custGeom>
            <a:avLst/>
            <a:gdLst/>
            <a:ahLst/>
            <a:rect l="l" t="t" r="r" b="b"/>
            <a:pathLst>
              <a:path w="252" h="192">
                <a:moveTo>
                  <a:pt x="0" y="192"/>
                </a:moveTo>
                <a:lnTo>
                  <a:pt x="25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77960" y="4456080"/>
            <a:ext cx="23832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87680" y="4494240"/>
            <a:ext cx="19980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89520" y="4437000"/>
            <a:ext cx="23796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8880" y="4475160"/>
            <a:ext cx="20016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589800" y="54936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FF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5514840" y="9208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49760" y="938160"/>
            <a:ext cx="641520" cy="951120"/>
          </a:xfrm>
          <a:custGeom>
            <a:avLst/>
            <a:gdLst/>
            <a:ahLst/>
            <a:rect l="l" t="t" r="r" b="b"/>
            <a:pathLst>
              <a:path w="404" h="599">
                <a:moveTo>
                  <a:pt x="404" y="0"/>
                </a:moveTo>
                <a:lnTo>
                  <a:pt x="0" y="599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9640" y="8618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13400" y="1755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68360" y="5526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1193760" y="923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66920" y="1052640"/>
            <a:ext cx="428400" cy="63792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20800" y="979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55760" y="15271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877000" y="4236480"/>
            <a:ext cx="504720" cy="2156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16280" y="3660840"/>
            <a:ext cx="647640" cy="7920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583320" y="343548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F*FF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0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T***T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790560" y="391788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107720" y="36003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97160" y="38606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8480" y="4340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0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2262240" y="3429000"/>
          <a:ext cx="158436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0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***T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 flipH="1">
            <a:off x="1306440" y="4435560"/>
            <a:ext cx="168480" cy="65232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258560" y="3648240"/>
            <a:ext cx="576360" cy="86328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28680" y="43783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583320" y="34322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T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 flipH="1">
            <a:off x="5805360" y="376380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724000" y="393372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02200" y="4330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57560" y="538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0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1182600" y="853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55760" y="847800"/>
            <a:ext cx="428760" cy="63828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09640" y="774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44600" y="13222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585120" y="546120"/>
          <a:ext cx="158400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105520" y="731880"/>
            <a:ext cx="1295280" cy="1441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176800" y="660240"/>
            <a:ext cx="1008000" cy="1440000"/>
          </a:xfrm>
          <a:prstGeom prst="line">
            <a:avLst/>
          </a:prstGeom>
          <a:ln w="7632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08800" y="1308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473200" y="754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-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1398600" y="1069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71760" y="1571760"/>
            <a:ext cx="85680" cy="129960"/>
          </a:xfrm>
          <a:custGeom>
            <a:avLst/>
            <a:gdLst/>
            <a:ahLst/>
            <a:rect l="l" t="t" r="r" b="b"/>
            <a:pathLst>
              <a:path w="54" h="82">
                <a:moveTo>
                  <a:pt x="54" y="0"/>
                </a:moveTo>
                <a:lnTo>
                  <a:pt x="0" y="8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60600" y="1538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56040" y="1989000"/>
            <a:ext cx="95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9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op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649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86600" y="5019840"/>
            <a:ext cx="447840" cy="228600"/>
          </a:xfrm>
          <a:custGeom>
            <a:avLst/>
            <a:gdLst/>
            <a:ahLst/>
            <a:rect l="l" t="t" r="r" b="b"/>
            <a:pathLst>
              <a:path w="282" h="144">
                <a:moveTo>
                  <a:pt x="0" y="144"/>
                </a:moveTo>
                <a:lnTo>
                  <a:pt x="144" y="0"/>
                </a:lnTo>
                <a:lnTo>
                  <a:pt x="282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4552920"/>
            <a:ext cx="361800" cy="581040"/>
          </a:xfrm>
          <a:custGeom>
            <a:avLst/>
            <a:gdLst/>
            <a:ahLst/>
            <a:rect l="l" t="t" r="r" b="b"/>
            <a:pathLst>
              <a:path w="228" h="366">
                <a:moveTo>
                  <a:pt x="24" y="366"/>
                </a:moveTo>
                <a:lnTo>
                  <a:pt x="228" y="18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24440" y="4962600"/>
            <a:ext cx="523800" cy="323640"/>
          </a:xfrm>
          <a:custGeom>
            <a:avLst/>
            <a:gdLst/>
            <a:ahLst/>
            <a:rect l="l" t="t" r="r" b="b"/>
            <a:pathLst>
              <a:path w="330" h="204">
                <a:moveTo>
                  <a:pt x="0" y="204"/>
                </a:moveTo>
                <a:lnTo>
                  <a:pt x="174" y="0"/>
                </a:lnTo>
                <a:lnTo>
                  <a:pt x="330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3:43:51Z</dcterms:modified>
  <cp:revision>39</cp:revision>
  <dc:subject/>
  <dc:title>Slide 1</dc:title>
</cp:coreProperties>
</file>