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D4BF-6948-4A35-990C-D5B7D9194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608C-0ED9-4306-B444-40AE9CDE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8983-074F-47E7-91C9-5019E3E83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1EAE-96BA-4396-A311-F6B60F39C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0E65-ADA5-447B-B115-0B9000C1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3CA5-0B05-4F4F-9746-A231EBCD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1192-8C11-46D3-83A6-6219FDA4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28F9-E0EB-4A99-A3B9-C9BCB8E2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AD38-E7C3-41B8-A149-11184F00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D6BC-B5C1-4BEC-A574-752E7B2C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8CB7-3438-4223-9249-35089800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3462-9469-4BD7-B2B6-2EB17DD4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FA4B-BF02-4CB3-83F5-40CA935B4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8000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13520" y="7016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6843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84720" y="1103400"/>
            <a:ext cx="2076480" cy="13788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53040" y="4748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78040" y="4809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18280" y="6350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33840" y="1386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60840" y="12826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26028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76480" y="23875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175248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8720" y="2617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0560" y="1714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5560" y="252900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3524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3683160"/>
            <a:ext cx="60768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24120" y="40147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38520" y="3809880"/>
            <a:ext cx="17172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00720" y="2727360"/>
            <a:ext cx="207612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9040" y="2098800"/>
            <a:ext cx="32040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94040" y="2104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49840" y="3009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2697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1120" y="316080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6880" y="551484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22760" y="487980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19120" y="5745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80960" y="4842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5960" y="565632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27440" y="5560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13160" y="5506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33720" y="59403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99000" y="58341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6240" y="52941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17800" y="551196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14760" y="5610240"/>
            <a:ext cx="123840" cy="219240"/>
          </a:xfrm>
          <a:custGeom>
            <a:avLst/>
            <a:gdLst/>
            <a:ahLst/>
            <a:rect l="l" t="t" r="r" b="b"/>
            <a:pathLst>
              <a:path w="78" h="138">
                <a:moveTo>
                  <a:pt x="0" y="0"/>
                </a:moveTo>
                <a:lnTo>
                  <a:pt x="78" y="138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11520" y="3162240"/>
            <a:ext cx="3022920" cy="1781280"/>
          </a:xfrm>
          <a:custGeom>
            <a:avLst/>
            <a:gdLst/>
            <a:ahLst/>
            <a:rect l="l" t="t" r="r" b="b"/>
            <a:pathLst>
              <a:path w="1904" h="1122">
                <a:moveTo>
                  <a:pt x="0" y="444"/>
                </a:moveTo>
                <a:lnTo>
                  <a:pt x="434" y="12"/>
                </a:lnTo>
                <a:lnTo>
                  <a:pt x="1904" y="0"/>
                </a:lnTo>
                <a:lnTo>
                  <a:pt x="1748" y="822"/>
                </a:lnTo>
                <a:lnTo>
                  <a:pt x="1274" y="1122"/>
                </a:lnTo>
                <a:lnTo>
                  <a:pt x="152" y="744"/>
                </a:lnTo>
                <a:lnTo>
                  <a:pt x="2" y="444"/>
                </a:lnTo>
                <a:lnTo>
                  <a:pt x="352" y="406"/>
                </a:lnTo>
                <a:lnTo>
                  <a:pt x="1184" y="756"/>
                </a:lnTo>
                <a:lnTo>
                  <a:pt x="1388" y="300"/>
                </a:lnTo>
                <a:lnTo>
                  <a:pt x="0" y="4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95680" y="3683160"/>
            <a:ext cx="60804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40160" y="4014720"/>
            <a:ext cx="69516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54560" y="3809880"/>
            <a:ext cx="17136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8638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19000" y="4152960"/>
            <a:ext cx="186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85960" y="1428840"/>
            <a:ext cx="2238120" cy="2228760"/>
          </a:xfrm>
          <a:custGeom>
            <a:avLst/>
            <a:gdLst/>
            <a:ahLst/>
            <a:rect l="l" t="t" r="r" b="b"/>
            <a:pathLst>
              <a:path w="1410" h="1404">
                <a:moveTo>
                  <a:pt x="1410" y="0"/>
                </a:moveTo>
                <a:lnTo>
                  <a:pt x="984" y="1404"/>
                </a:lnTo>
                <a:lnTo>
                  <a:pt x="0" y="294"/>
                </a:lnTo>
                <a:lnTo>
                  <a:pt x="141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47720" y="1933560"/>
            <a:ext cx="1133640" cy="1190520"/>
          </a:xfrm>
          <a:custGeom>
            <a:avLst/>
            <a:gdLst/>
            <a:ahLst/>
            <a:rect l="l" t="t" r="r" b="b"/>
            <a:pathLst>
              <a:path w="714" h="750">
                <a:moveTo>
                  <a:pt x="714" y="138"/>
                </a:moveTo>
                <a:lnTo>
                  <a:pt x="288" y="750"/>
                </a:lnTo>
                <a:lnTo>
                  <a:pt x="0" y="0"/>
                </a:lnTo>
                <a:lnTo>
                  <a:pt x="714" y="1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9344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41200" y="231444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40120" y="2000160"/>
            <a:ext cx="1981080" cy="1086120"/>
          </a:xfrm>
          <a:custGeom>
            <a:avLst/>
            <a:gdLst/>
            <a:ahLst/>
            <a:rect l="l" t="t" r="r" b="b"/>
            <a:pathLst>
              <a:path w="1248" h="684">
                <a:moveTo>
                  <a:pt x="1248" y="390"/>
                </a:moveTo>
                <a:lnTo>
                  <a:pt x="588" y="684"/>
                </a:lnTo>
                <a:lnTo>
                  <a:pt x="0" y="0"/>
                </a:lnTo>
                <a:lnTo>
                  <a:pt x="1248" y="39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83160" y="1484280"/>
            <a:ext cx="3481200" cy="1935360"/>
          </a:xfrm>
          <a:custGeom>
            <a:avLst/>
            <a:gdLst/>
            <a:ahLst/>
            <a:rect l="l" t="t" r="r" b="b"/>
            <a:pathLst>
              <a:path w="2193" h="1219">
                <a:moveTo>
                  <a:pt x="2193" y="967"/>
                </a:moveTo>
                <a:lnTo>
                  <a:pt x="87" y="1219"/>
                </a:lnTo>
                <a:lnTo>
                  <a:pt x="0" y="0"/>
                </a:lnTo>
                <a:lnTo>
                  <a:pt x="2193" y="9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63640" y="29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14440" y="1843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54440" y="249228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3348000" y="189000"/>
            <a:ext cx="3753000" cy="4962600"/>
            <a:chOff x="3348000" y="189000"/>
            <a:chExt cx="3753000" cy="4962600"/>
          </a:xfrm>
        </p:grpSpPr>
        <p:sp>
          <p:nvSpPr>
            <p:cNvPr id="131" name=""/>
            <p:cNvSpPr/>
            <p:nvPr/>
          </p:nvSpPr>
          <p:spPr>
            <a:xfrm>
              <a:off x="3348000" y="189000"/>
              <a:ext cx="3753000" cy="4962600"/>
            </a:xfrm>
            <a:custGeom>
              <a:avLst/>
              <a:gdLst/>
              <a:ahLst/>
              <a:rect l="l" t="t" r="r" b="b"/>
              <a:pathLst>
                <a:path w="2364" h="3126">
                  <a:moveTo>
                    <a:pt x="2316" y="0"/>
                  </a:moveTo>
                  <a:lnTo>
                    <a:pt x="2364" y="3126"/>
                  </a:lnTo>
                  <a:lnTo>
                    <a:pt x="0" y="864"/>
                  </a:lnTo>
                  <a:lnTo>
                    <a:pt x="2316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15120" y="1893960"/>
              <a:ext cx="1085760" cy="1876320"/>
            </a:xfrm>
            <a:custGeom>
              <a:avLst/>
              <a:gdLst/>
              <a:ahLst/>
              <a:rect l="l" t="t" r="r" b="b"/>
              <a:pathLst>
                <a:path w="684" h="1182">
                  <a:moveTo>
                    <a:pt x="672" y="0"/>
                  </a:moveTo>
                  <a:lnTo>
                    <a:pt x="684" y="1182"/>
                  </a:lnTo>
                  <a:lnTo>
                    <a:pt x="0" y="504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1452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39640" y="907920"/>
            <a:ext cx="2781360" cy="3629160"/>
            <a:chOff x="539640" y="907920"/>
            <a:chExt cx="2781360" cy="3629160"/>
          </a:xfrm>
        </p:grpSpPr>
        <p:sp>
          <p:nvSpPr>
            <p:cNvPr id="136" name=""/>
            <p:cNvSpPr/>
            <p:nvPr/>
          </p:nvSpPr>
          <p:spPr>
            <a:xfrm>
              <a:off x="539640" y="907920"/>
              <a:ext cx="2781360" cy="3629160"/>
            </a:xfrm>
            <a:custGeom>
              <a:avLst/>
              <a:gdLst/>
              <a:ahLst/>
              <a:rect l="l" t="t" r="r" b="b"/>
              <a:pathLst>
                <a:path w="1752" h="2286">
                  <a:moveTo>
                    <a:pt x="1668" y="0"/>
                  </a:moveTo>
                  <a:lnTo>
                    <a:pt x="1752" y="2286"/>
                  </a:lnTo>
                  <a:lnTo>
                    <a:pt x="0" y="486"/>
                  </a:lnTo>
                  <a:lnTo>
                    <a:pt x="1668" y="0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22400" y="1184040"/>
              <a:ext cx="2009520" cy="1047960"/>
            </a:xfrm>
            <a:custGeom>
              <a:avLst/>
              <a:gdLst/>
              <a:ahLst/>
              <a:rect l="l" t="t" r="r" b="b"/>
              <a:pathLst>
                <a:path w="1266" h="660">
                  <a:moveTo>
                    <a:pt x="1266" y="0"/>
                  </a:moveTo>
                  <a:lnTo>
                    <a:pt x="774" y="660"/>
                  </a:lnTo>
                  <a:lnTo>
                    <a:pt x="0" y="360"/>
                  </a:lnTo>
                  <a:lnTo>
                    <a:pt x="1266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990960" y="2482920"/>
            <a:ext cx="1085760" cy="1876320"/>
          </a:xfrm>
          <a:custGeom>
            <a:avLst/>
            <a:gdLst/>
            <a:ahLst/>
            <a:rect l="l" t="t" r="r" b="b"/>
            <a:pathLst>
              <a:path w="684" h="1182">
                <a:moveTo>
                  <a:pt x="672" y="0"/>
                </a:moveTo>
                <a:lnTo>
                  <a:pt x="684" y="1182"/>
                </a:lnTo>
                <a:lnTo>
                  <a:pt x="0" y="504"/>
                </a:lnTo>
                <a:lnTo>
                  <a:pt x="672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4800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79960" y="4597560"/>
            <a:ext cx="81576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5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5276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1500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9744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62320" y="5002200"/>
            <a:ext cx="5724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9916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0536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4180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57760" y="5986440"/>
            <a:ext cx="54900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0056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29240" y="4795920"/>
            <a:ext cx="32364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9396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42040" y="1085760"/>
            <a:ext cx="1001520" cy="1123920"/>
          </a:xfrm>
          <a:custGeom>
            <a:avLst/>
            <a:gdLst/>
            <a:ahLst/>
            <a:rect l="l" t="t" r="r" b="b"/>
            <a:pathLst>
              <a:path w="631" h="708">
                <a:moveTo>
                  <a:pt x="0" y="383"/>
                </a:moveTo>
                <a:lnTo>
                  <a:pt x="175" y="0"/>
                </a:lnTo>
                <a:lnTo>
                  <a:pt x="631" y="708"/>
                </a:lnTo>
                <a:lnTo>
                  <a:pt x="0" y="3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70720" y="1165320"/>
            <a:ext cx="529920" cy="834840"/>
          </a:xfrm>
          <a:custGeom>
            <a:avLst/>
            <a:gdLst/>
            <a:ahLst/>
            <a:rect l="l" t="t" r="r" b="b"/>
            <a:pathLst>
              <a:path w="334" h="526">
                <a:moveTo>
                  <a:pt x="0" y="0"/>
                </a:moveTo>
                <a:lnTo>
                  <a:pt x="334" y="526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7360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33960" y="1836720"/>
            <a:ext cx="230040" cy="522360"/>
          </a:xfrm>
          <a:custGeom>
            <a:avLst/>
            <a:gdLst/>
            <a:ahLst/>
            <a:rect l="l" t="t" r="r" b="b"/>
            <a:pathLst>
              <a:path w="145" h="329">
                <a:moveTo>
                  <a:pt x="145" y="0"/>
                </a:moveTo>
                <a:lnTo>
                  <a:pt x="0" y="32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40160" y="1197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73640" y="1092240"/>
            <a:ext cx="244440" cy="522360"/>
          </a:xfrm>
          <a:custGeom>
            <a:avLst/>
            <a:gdLst/>
            <a:ahLst/>
            <a:rect l="l" t="t" r="r" b="b"/>
            <a:pathLst>
              <a:path w="154" h="329">
                <a:moveTo>
                  <a:pt x="0" y="329"/>
                </a:moveTo>
                <a:lnTo>
                  <a:pt x="1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40160" y="2104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75440" y="1628640"/>
            <a:ext cx="14256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7560" y="2614680"/>
            <a:ext cx="2809800" cy="2666880"/>
          </a:xfrm>
          <a:custGeom>
            <a:avLst/>
            <a:gdLst/>
            <a:ahLst/>
            <a:rect l="l" t="t" r="r" b="b"/>
            <a:pathLst>
              <a:path w="1770" h="1680">
                <a:moveTo>
                  <a:pt x="1326" y="0"/>
                </a:moveTo>
                <a:lnTo>
                  <a:pt x="1770" y="1242"/>
                </a:lnTo>
                <a:lnTo>
                  <a:pt x="0" y="1680"/>
                </a:lnTo>
                <a:lnTo>
                  <a:pt x="132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36960" y="2595600"/>
            <a:ext cx="2810160" cy="3343320"/>
          </a:xfrm>
          <a:custGeom>
            <a:avLst/>
            <a:gdLst/>
            <a:ahLst/>
            <a:rect l="l" t="t" r="r" b="b"/>
            <a:pathLst>
              <a:path w="1770" h="2106">
                <a:moveTo>
                  <a:pt x="1770" y="0"/>
                </a:moveTo>
                <a:lnTo>
                  <a:pt x="882" y="2106"/>
                </a:lnTo>
                <a:lnTo>
                  <a:pt x="0" y="864"/>
                </a:lnTo>
                <a:lnTo>
                  <a:pt x="177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70440" y="340992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72000" y="3860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597280" y="360684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27640" y="472608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86200" y="5219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89600" y="4919760"/>
            <a:ext cx="247680" cy="209520"/>
          </a:xfrm>
          <a:custGeom>
            <a:avLst/>
            <a:gdLst/>
            <a:ahLst/>
            <a:rect l="l" t="t" r="r" b="b"/>
            <a:pathLst>
              <a:path w="156" h="132">
                <a:moveTo>
                  <a:pt x="156" y="0"/>
                </a:moveTo>
                <a:lnTo>
                  <a:pt x="0" y="13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27600" y="3929040"/>
            <a:ext cx="1380960" cy="1381320"/>
          </a:xfrm>
          <a:custGeom>
            <a:avLst/>
            <a:gdLst/>
            <a:ahLst/>
            <a:rect l="l" t="t" r="r" b="b"/>
            <a:pathLst>
              <a:path w="870" h="870">
                <a:moveTo>
                  <a:pt x="12" y="30"/>
                </a:moveTo>
                <a:lnTo>
                  <a:pt x="450" y="0"/>
                </a:lnTo>
                <a:lnTo>
                  <a:pt x="870" y="408"/>
                </a:lnTo>
                <a:lnTo>
                  <a:pt x="0" y="870"/>
                </a:lnTo>
                <a:lnTo>
                  <a:pt x="12" y="30"/>
                </a:lnTo>
                <a:close/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48360" y="3952800"/>
            <a:ext cx="709920" cy="1971720"/>
          </a:xfrm>
          <a:custGeom>
            <a:avLst/>
            <a:gdLst/>
            <a:ahLst/>
            <a:rect l="l" t="t" r="r" b="b"/>
            <a:pathLst>
              <a:path w="447" h="1242">
                <a:moveTo>
                  <a:pt x="3" y="0"/>
                </a:moveTo>
                <a:lnTo>
                  <a:pt x="441" y="0"/>
                </a:lnTo>
                <a:lnTo>
                  <a:pt x="447" y="1242"/>
                </a:lnTo>
                <a:lnTo>
                  <a:pt x="0" y="1242"/>
                </a:lnTo>
                <a:lnTo>
                  <a:pt x="3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14760" y="4610160"/>
            <a:ext cx="5648040" cy="676080"/>
          </a:xfrm>
          <a:custGeom>
            <a:avLst/>
            <a:gdLst/>
            <a:ahLst/>
            <a:rect l="l" t="t" r="r" b="b"/>
            <a:pathLst>
              <a:path w="3558" h="426">
                <a:moveTo>
                  <a:pt x="0" y="426"/>
                </a:moveTo>
                <a:lnTo>
                  <a:pt x="3558" y="420"/>
                </a:lnTo>
                <a:lnTo>
                  <a:pt x="12" y="0"/>
                </a:lnTo>
                <a:lnTo>
                  <a:pt x="0" y="42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4520" y="4724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1-19T13:21:18Z</dcterms:modified>
  <cp:revision>148</cp:revision>
  <dc:subject/>
  <dc:title>Slide 1</dc:title>
</cp:coreProperties>
</file>