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4D16-E833-4ED8-8F82-20520AD7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DC9A-23D4-46BC-A396-0F7DAE7E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4553-7761-4826-8B97-FC25105B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A522-4AC6-446D-B18B-65BEF0E9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76E2-0464-4A41-9461-DA22C1B0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8BCE-59E4-4985-A0F2-958897C4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8E6F-FCD8-41DE-AC8C-912B1AB7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4D00-3F62-4E9C-B122-A10BDD24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D045-A681-46DC-AEDF-478475B9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4CBF-6C33-4A0F-A999-A3B57223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F27C-2F51-4BC0-9CE1-6C3C9C09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B97A-504B-4C8C-AD91-FECECA4E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1A23-1E5A-472D-AF25-E03A4320F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gmented de9im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ugmented dimension extended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9 intersection matr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nd Gehr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opposite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32400" y="126828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733400" y="130824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 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451240" y="1994040"/>
            <a:ext cx="3848040" cy="28080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0520" y="2201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7680" y="188424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96760" y="21448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440" y="26240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4720" y="41482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4653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38960" y="462132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97480" y="41148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698480" y="4154400"/>
          <a:ext cx="1584360" cy="2381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416320" y="4840200"/>
            <a:ext cx="3879720" cy="274680"/>
          </a:xfrm>
          <a:custGeom>
            <a:avLst/>
            <a:gdLst/>
            <a:ahLst/>
            <a:rect l="l" t="t" r="r" b="b"/>
            <a:pathLst>
              <a:path w="2444" h="173">
                <a:moveTo>
                  <a:pt x="0" y="0"/>
                </a:moveTo>
                <a:lnTo>
                  <a:pt x="2444" y="17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" y="50482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3360" y="476244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61840" y="49910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47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96360" y="155736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13800" y="17017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0600" y="1685880"/>
            <a:ext cx="6480" cy="49536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440" y="21463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3560" y="2251080"/>
            <a:ext cx="58428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9440" y="49849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720" y="509256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34200" y="4200480"/>
            <a:ext cx="1800" cy="698400"/>
          </a:xfrm>
          <a:custGeom>
            <a:avLst/>
            <a:gdLst/>
            <a:ahLst/>
            <a:rect l="l" t="t" r="r" b="b"/>
            <a:pathLst>
              <a:path w="1" h="440">
                <a:moveTo>
                  <a:pt x="0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44080" y="4708440"/>
            <a:ext cx="144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407440" y="1577880"/>
            <a:ext cx="4680" cy="752400"/>
          </a:xfrm>
          <a:custGeom>
            <a:avLst/>
            <a:gdLst/>
            <a:ahLst/>
            <a:rect l="l" t="t" r="r" b="b"/>
            <a:pathLst>
              <a:path w="3" h="474">
                <a:moveTo>
                  <a:pt x="3" y="0"/>
                </a:moveTo>
                <a:lnTo>
                  <a:pt x="0" y="47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04040" y="1727280"/>
            <a:ext cx="6480" cy="444600"/>
          </a:xfrm>
          <a:custGeom>
            <a:avLst/>
            <a:gdLst/>
            <a:ahLst/>
            <a:rect l="l" t="t" r="r" b="b"/>
            <a:pathLst>
              <a:path w="4" h="280">
                <a:moveTo>
                  <a:pt x="0" y="0"/>
                </a:moveTo>
                <a:lnTo>
                  <a:pt x="4" y="28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1943280"/>
            <a:ext cx="2705040" cy="1514160"/>
          </a:xfrm>
          <a:custGeom>
            <a:avLst/>
            <a:gdLst/>
            <a:ahLst/>
            <a:rect l="l" t="t" r="r" b="b"/>
            <a:pathLst>
              <a:path w="1704" h="954">
                <a:moveTo>
                  <a:pt x="0" y="954"/>
                </a:moveTo>
                <a:lnTo>
                  <a:pt x="17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62640" y="4734000"/>
            <a:ext cx="2157120" cy="1209600"/>
          </a:xfrm>
          <a:custGeom>
            <a:avLst/>
            <a:gdLst/>
            <a:ahLst/>
            <a:rect l="l" t="t" r="r" b="b"/>
            <a:pathLst>
              <a:path w="1359" h="762">
                <a:moveTo>
                  <a:pt x="0" y="762"/>
                </a:moveTo>
                <a:lnTo>
                  <a:pt x="135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5524560"/>
            <a:ext cx="1376280" cy="419040"/>
          </a:xfrm>
          <a:custGeom>
            <a:avLst/>
            <a:gdLst/>
            <a:ahLst/>
            <a:rect l="l" t="t" r="r" b="b"/>
            <a:pathLst>
              <a:path w="867" h="264">
                <a:moveTo>
                  <a:pt x="0" y="264"/>
                </a:moveTo>
                <a:lnTo>
                  <a:pt x="8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04280" y="4302000"/>
            <a:ext cx="423720" cy="422280"/>
          </a:xfrm>
          <a:custGeom>
            <a:avLst/>
            <a:gdLst/>
            <a:ahLst/>
            <a:rect l="l" t="t" r="r" b="b"/>
            <a:pathLst>
              <a:path w="267" h="266">
                <a:moveTo>
                  <a:pt x="0" y="130"/>
                </a:moveTo>
                <a:cubicBezTo>
                  <a:pt x="4" y="117"/>
                  <a:pt x="6" y="72"/>
                  <a:pt x="25" y="51"/>
                </a:cubicBezTo>
                <a:cubicBezTo>
                  <a:pt x="44" y="30"/>
                  <a:pt x="82" y="6"/>
                  <a:pt x="114" y="3"/>
                </a:cubicBezTo>
                <a:cubicBezTo>
                  <a:pt x="146" y="0"/>
                  <a:pt x="191" y="13"/>
                  <a:pt x="216" y="31"/>
                </a:cubicBezTo>
                <a:cubicBezTo>
                  <a:pt x="241" y="49"/>
                  <a:pt x="261" y="82"/>
                  <a:pt x="264" y="112"/>
                </a:cubicBezTo>
                <a:cubicBezTo>
                  <a:pt x="267" y="142"/>
                  <a:pt x="257" y="188"/>
                  <a:pt x="237" y="213"/>
                </a:cubicBezTo>
                <a:cubicBezTo>
                  <a:pt x="217" y="238"/>
                  <a:pt x="171" y="256"/>
                  <a:pt x="142" y="261"/>
                </a:cubicBezTo>
                <a:cubicBezTo>
                  <a:pt x="113" y="266"/>
                  <a:pt x="77" y="245"/>
                  <a:pt x="60" y="241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34440" y="47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39000" y="175752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553000"/>
            <a:ext cx="1762200" cy="390600"/>
          </a:xfrm>
          <a:custGeom>
            <a:avLst/>
            <a:gdLst/>
            <a:ahLst/>
            <a:rect l="l" t="t" r="r" b="b"/>
            <a:pathLst>
              <a:path w="1110" h="246">
                <a:moveTo>
                  <a:pt x="0" y="246"/>
                </a:moveTo>
                <a:lnTo>
                  <a:pt x="111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67320" y="5129280"/>
            <a:ext cx="2171520" cy="814320"/>
          </a:xfrm>
          <a:custGeom>
            <a:avLst/>
            <a:gdLst/>
            <a:ahLst/>
            <a:rect l="l" t="t" r="r" b="b"/>
            <a:pathLst>
              <a:path w="1368" h="513">
                <a:moveTo>
                  <a:pt x="0" y="513"/>
                </a:moveTo>
                <a:lnTo>
                  <a:pt x="136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7200" y="5943600"/>
            <a:ext cx="1504800" cy="409680"/>
          </a:xfrm>
          <a:custGeom>
            <a:avLst/>
            <a:gdLst/>
            <a:ahLst/>
            <a:rect l="l" t="t" r="r" b="b"/>
            <a:pathLst>
              <a:path w="948" h="258">
                <a:moveTo>
                  <a:pt x="0" y="258"/>
                </a:moveTo>
                <a:lnTo>
                  <a:pt x="94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0280" y="2565360"/>
            <a:ext cx="1155600" cy="863640"/>
          </a:xfrm>
          <a:custGeom>
            <a:avLst/>
            <a:gdLst/>
            <a:ahLst/>
            <a:rect l="l" t="t" r="r" b="b"/>
            <a:pathLst>
              <a:path w="728" h="544">
                <a:moveTo>
                  <a:pt x="0" y="544"/>
                </a:moveTo>
                <a:lnTo>
                  <a:pt x="0" y="344"/>
                </a:lnTo>
                <a:lnTo>
                  <a:pt x="236" y="342"/>
                </a:lnTo>
                <a:lnTo>
                  <a:pt x="236" y="180"/>
                </a:lnTo>
                <a:lnTo>
                  <a:pt x="8" y="186"/>
                </a:lnTo>
                <a:lnTo>
                  <a:pt x="8" y="0"/>
                </a:lnTo>
                <a:lnTo>
                  <a:pt x="728" y="0"/>
                </a:lnTo>
                <a:lnTo>
                  <a:pt x="728" y="540"/>
                </a:lnTo>
                <a:lnTo>
                  <a:pt x="0" y="544"/>
                </a:lnTo>
                <a:close/>
              </a:path>
            </a:pathLst>
          </a:custGeom>
          <a:solidFill>
            <a:srgbClr val="669900">
              <a:alpha val="8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42320" y="285264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35840" y="2820960"/>
            <a:ext cx="1800" cy="30492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40600" y="290844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1320" y="29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31080" y="289728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added “opposite” information on segments, in case of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if polygons have interior/interior overlap or interior/exterior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if the polygons, at those segments, overlap each other or touc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it is different from “DLine” 16 matrix where segment-boundaries/directions s/e (start/end) are noticed. In case of overlap the boundaries do not need to inter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turn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9000" y="5343480"/>
            <a:ext cx="352440" cy="504720"/>
          </a:xfrm>
          <a:custGeom>
            <a:avLst/>
            <a:gdLst/>
            <a:ahLst/>
            <a:rect l="l" t="t" r="r" b="b"/>
            <a:pathLst>
              <a:path w="222" h="318">
                <a:moveTo>
                  <a:pt x="0" y="318"/>
                </a:moveTo>
                <a:lnTo>
                  <a:pt x="6" y="0"/>
                </a:lnTo>
                <a:lnTo>
                  <a:pt x="222" y="6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29680" y="2565360"/>
            <a:ext cx="1440" cy="84456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2968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5760" y="31543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82800" y="3355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7640" y="609300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2775600">
            <a:off x="7926120" y="6154200"/>
            <a:ext cx="306360" cy="2811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6093000"/>
            <a:ext cx="218880" cy="215640"/>
          </a:xfrm>
          <a:custGeom>
            <a:avLst/>
            <a:gdLst/>
            <a:ahLst/>
            <a:rect l="l" t="t" r="r" b="b"/>
            <a:pathLst>
              <a:path w="138" h="136">
                <a:moveTo>
                  <a:pt x="138" y="13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24760" y="60087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0320" y="1709640"/>
            <a:ext cx="23760" cy="594000"/>
          </a:xfrm>
          <a:custGeom>
            <a:avLst/>
            <a:gdLst/>
            <a:ahLst/>
            <a:rect l="l" t="t" r="r" b="b"/>
            <a:pathLst>
              <a:path w="15" h="374">
                <a:moveTo>
                  <a:pt x="15" y="0"/>
                </a:moveTo>
                <a:lnTo>
                  <a:pt x="0" y="37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(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7596360" y="811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01080" y="954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39000" y="10112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93160" y="952560"/>
            <a:ext cx="218880" cy="6120"/>
          </a:xfrm>
          <a:custGeom>
            <a:avLst/>
            <a:gdLst/>
            <a:ahLst/>
            <a:rect l="l" t="t" r="r" b="b"/>
            <a:pathLst>
              <a:path w="138" h="4">
                <a:moveTo>
                  <a:pt x="0" y="4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53360" y="882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7596360" y="17352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01080" y="187812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39000" y="1935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05760" y="1873080"/>
            <a:ext cx="219240" cy="1800"/>
          </a:xfrm>
          <a:custGeom>
            <a:avLst/>
            <a:gdLst/>
            <a:ahLst/>
            <a:rect l="l" t="t" r="r" b="b"/>
            <a:pathLst>
              <a:path w="138" h="1">
                <a:moveTo>
                  <a:pt x="0" y="0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53360" y="18064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4653000"/>
            <a:ext cx="66596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directed segment b (and they are all directed) of poly B meets the interior of a segment a of poly A, the situation is the exactly the same as in the opposite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 “opposite” gives no extra information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05920" y="2717640"/>
            <a:ext cx="6120" cy="736920"/>
          </a:xfrm>
          <a:custGeom>
            <a:avLst/>
            <a:gdLst/>
            <a:ahLst/>
            <a:rect l="l" t="t" r="r" b="b"/>
            <a:pathLst>
              <a:path w="4" h="464">
                <a:moveTo>
                  <a:pt x="0" y="0"/>
                </a:moveTo>
                <a:lnTo>
                  <a:pt x="4" y="46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2720880"/>
            <a:ext cx="34416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51400" y="32209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79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944920" y="3463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48040" y="301464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5040" y="2306520"/>
            <a:ext cx="127080" cy="551160"/>
          </a:xfrm>
          <a:custGeom>
            <a:avLst/>
            <a:gdLst/>
            <a:ahLst/>
            <a:rect l="l" t="t" r="r" b="b"/>
            <a:pathLst>
              <a:path w="80" h="347">
                <a:moveTo>
                  <a:pt x="80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413080"/>
            <a:ext cx="495360" cy="406440"/>
          </a:xfrm>
          <a:custGeom>
            <a:avLst/>
            <a:gdLst/>
            <a:ahLst/>
            <a:rect l="l" t="t" r="r" b="b"/>
            <a:pathLst>
              <a:path w="312" h="256">
                <a:moveTo>
                  <a:pt x="312" y="0"/>
                </a:moveTo>
                <a:lnTo>
                  <a:pt x="56" y="8"/>
                </a:lnTo>
                <a:lnTo>
                  <a:pt x="0" y="2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0000" y="2371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56440" y="909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90972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44000" y="8380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184464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1844640"/>
            <a:ext cx="293400" cy="180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17715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7840" y="5067360"/>
            <a:ext cx="584280" cy="162000"/>
          </a:xfrm>
          <a:custGeom>
            <a:avLst/>
            <a:gdLst/>
            <a:ahLst/>
            <a:rect l="l" t="t" r="r" b="b"/>
            <a:pathLst>
              <a:path w="368" h="102">
                <a:moveTo>
                  <a:pt x="368" y="10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760" y="5219640"/>
            <a:ext cx="368280" cy="622440"/>
          </a:xfrm>
          <a:custGeom>
            <a:avLst/>
            <a:gdLst/>
            <a:ahLst/>
            <a:rect l="l" t="t" r="r" b="b"/>
            <a:pathLst>
              <a:path w="232" h="392">
                <a:moveTo>
                  <a:pt x="232" y="392"/>
                </a:moveTo>
                <a:lnTo>
                  <a:pt x="232" y="6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9840" y="5241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099280" y="403236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96200" y="4533840"/>
            <a:ext cx="9720" cy="20016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32840" y="4440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8101080" y="558972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94760" y="5257800"/>
            <a:ext cx="9360" cy="324000"/>
          </a:xfrm>
          <a:custGeom>
            <a:avLst/>
            <a:gdLst/>
            <a:ahLst/>
            <a:rect l="l" t="t" r="r" b="b"/>
            <a:pathLst>
              <a:path w="6" h="204">
                <a:moveTo>
                  <a:pt x="0" y="20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31040" y="55166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59400" y="1682640"/>
            <a:ext cx="2127240" cy="425520"/>
          </a:xfrm>
          <a:custGeom>
            <a:avLst/>
            <a:gdLst/>
            <a:ahLst/>
            <a:rect l="l" t="t" r="r" b="b"/>
            <a:pathLst>
              <a:path w="1340" h="268">
                <a:moveTo>
                  <a:pt x="0" y="268"/>
                </a:moveTo>
                <a:lnTo>
                  <a:pt x="134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84600" y="2070000"/>
            <a:ext cx="1720800" cy="50760"/>
          </a:xfrm>
          <a:custGeom>
            <a:avLst/>
            <a:gdLst/>
            <a:ahLst/>
            <a:rect l="l" t="t" r="r" b="b"/>
            <a:pathLst>
              <a:path w="1084" h="32">
                <a:moveTo>
                  <a:pt x="0" y="32"/>
                </a:moveTo>
                <a:lnTo>
                  <a:pt x="10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10160" y="2133720"/>
            <a:ext cx="1333440" cy="311040"/>
          </a:xfrm>
          <a:custGeom>
            <a:avLst/>
            <a:gdLst/>
            <a:ahLst/>
            <a:rect l="l" t="t" r="r" b="b"/>
            <a:pathLst>
              <a:path w="840" h="196">
                <a:moveTo>
                  <a:pt x="0" y="0"/>
                </a:moveTo>
                <a:lnTo>
                  <a:pt x="840" y="1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53440" y="3073320"/>
            <a:ext cx="1582560" cy="468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25000" y="3057480"/>
            <a:ext cx="4680" cy="676440"/>
          </a:xfrm>
          <a:custGeom>
            <a:avLst/>
            <a:gdLst/>
            <a:ahLst/>
            <a:rect l="l" t="t" r="r" b="b"/>
            <a:pathLst>
              <a:path w="3" h="426">
                <a:moveTo>
                  <a:pt x="3" y="0"/>
                </a:moveTo>
                <a:lnTo>
                  <a:pt x="0" y="42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37520" y="294480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72240" y="2743200"/>
            <a:ext cx="1463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956720" y="3097080"/>
            <a:ext cx="344160" cy="6001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819280" y="30877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88000" y="31035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01920" y="341784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7640" y="337644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90792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a I/B or B/I segment give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inside of the polygon is always on the righ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right turn means inbound, polygon I/I, polygon I/B or B/I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ft turn means outbound, polygon touches or over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se tu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8800" y="3713040"/>
            <a:ext cx="1771560" cy="830520"/>
          </a:xfrm>
          <a:custGeom>
            <a:avLst/>
            <a:gdLst/>
            <a:ahLst/>
            <a:rect l="l" t="t" r="r" b="b"/>
            <a:pathLst>
              <a:path w="1116" h="523">
                <a:moveTo>
                  <a:pt x="1116" y="0"/>
                </a:moveTo>
                <a:lnTo>
                  <a:pt x="0" y="52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60460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096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313600">
            <a:off x="235440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20027400">
            <a:off x="1047240" y="4043160"/>
            <a:ext cx="88740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5092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3749760"/>
            <a:ext cx="206856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3560" y="3233880"/>
            <a:ext cx="1023840" cy="738000"/>
          </a:xfrm>
          <a:custGeom>
            <a:avLst/>
            <a:gdLst/>
            <a:ahLst/>
            <a:rect l="l" t="t" r="r" b="b"/>
            <a:pathLst>
              <a:path w="645" h="465">
                <a:moveTo>
                  <a:pt x="645" y="0"/>
                </a:moveTo>
                <a:lnTo>
                  <a:pt x="441" y="270"/>
                </a:lnTo>
                <a:lnTo>
                  <a:pt x="0" y="4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25600" y="3357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051600">
            <a:off x="610920" y="394776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8800" y="3713040"/>
            <a:ext cx="317520" cy="1230480"/>
          </a:xfrm>
          <a:custGeom>
            <a:avLst/>
            <a:gdLst/>
            <a:ahLst/>
            <a:rect l="l" t="t" r="r" b="b"/>
            <a:pathLst>
              <a:path w="200" h="775">
                <a:moveTo>
                  <a:pt x="200" y="0"/>
                </a:moveTo>
                <a:lnTo>
                  <a:pt x="0" y="775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46092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0728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313600">
            <a:off x="621036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7103000">
            <a:off x="5870880" y="4207320"/>
            <a:ext cx="76392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10688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65800" y="3749760"/>
            <a:ext cx="206820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3233880"/>
            <a:ext cx="471240" cy="1195200"/>
          </a:xfrm>
          <a:custGeom>
            <a:avLst/>
            <a:gdLst/>
            <a:ahLst/>
            <a:rect l="l" t="t" r="r" b="b"/>
            <a:pathLst>
              <a:path w="297" h="753">
                <a:moveTo>
                  <a:pt x="297" y="0"/>
                </a:moveTo>
                <a:lnTo>
                  <a:pt x="93" y="270"/>
                </a:lnTo>
                <a:lnTo>
                  <a:pt x="0" y="75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89800" y="3597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1128400">
            <a:off x="4536720" y="396684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907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two segments say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right turn means inside, but e.g. on corners as in previous there are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both for turns measured from a common starting point, as for turns measured for segments follow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o use a third segment to use tur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polyg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484360" y="191628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133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2133720"/>
            <a:ext cx="216000" cy="287280"/>
          </a:xfrm>
          <a:prstGeom prst="rect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085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935000"/>
            <a:ext cx="37476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7040" y="1930320"/>
            <a:ext cx="218880" cy="285840"/>
          </a:xfrm>
          <a:custGeom>
            <a:avLst/>
            <a:gdLst/>
            <a:ahLst/>
            <a:rect l="l" t="t" r="r" b="b"/>
            <a:pathLst>
              <a:path w="138" h="180">
                <a:moveTo>
                  <a:pt x="0" y="180"/>
                </a:moveTo>
                <a:lnTo>
                  <a:pt x="0" y="0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44880" y="2211480"/>
            <a:ext cx="28908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3392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78440" y="351468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351792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7040" y="346716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5132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3480" y="1924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98920" y="3357720"/>
            <a:ext cx="34740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8880" y="3448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27440" y="3443400"/>
            <a:ext cx="218880" cy="290520"/>
          </a:xfrm>
          <a:custGeom>
            <a:avLst/>
            <a:gdLst/>
            <a:ahLst/>
            <a:rect l="l" t="t" r="r" b="b"/>
            <a:pathLst>
              <a:path w="138" h="183">
                <a:moveTo>
                  <a:pt x="0" y="180"/>
                </a:moveTo>
                <a:lnTo>
                  <a:pt x="133" y="183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133720"/>
            <a:ext cx="505080" cy="504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1989000"/>
            <a:ext cx="504720" cy="50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6760" y="1989000"/>
            <a:ext cx="507960" cy="505080"/>
          </a:xfrm>
          <a:custGeom>
            <a:avLst/>
            <a:gdLst/>
            <a:ahLst/>
            <a:rect l="l" t="t" r="r" b="b"/>
            <a:pathLst>
              <a:path w="320" h="318">
                <a:moveTo>
                  <a:pt x="320" y="88"/>
                </a:moveTo>
                <a:lnTo>
                  <a:pt x="318" y="0"/>
                </a:lnTo>
                <a:lnTo>
                  <a:pt x="0" y="0"/>
                </a:lnTo>
                <a:lnTo>
                  <a:pt x="3" y="318"/>
                </a:lnTo>
                <a:lnTo>
                  <a:pt x="183" y="315"/>
                </a:lnTo>
                <a:lnTo>
                  <a:pt x="183" y="88"/>
                </a:lnTo>
                <a:lnTo>
                  <a:pt x="320" y="88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2920" y="328464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42900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1480" y="3282840"/>
            <a:ext cx="349200" cy="368280"/>
          </a:xfrm>
          <a:custGeom>
            <a:avLst/>
            <a:gdLst/>
            <a:ahLst/>
            <a:rect l="l" t="t" r="r" b="b"/>
            <a:pathLst>
              <a:path w="220" h="232">
                <a:moveTo>
                  <a:pt x="220" y="92"/>
                </a:moveTo>
                <a:lnTo>
                  <a:pt x="220" y="0"/>
                </a:lnTo>
                <a:lnTo>
                  <a:pt x="0" y="0"/>
                </a:lnTo>
                <a:lnTo>
                  <a:pt x="0" y="232"/>
                </a:lnTo>
                <a:lnTo>
                  <a:pt x="92" y="232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581360"/>
            <a:ext cx="34776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25960" y="4672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450864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442584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98920" y="4518000"/>
            <a:ext cx="37440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75080" y="461340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62480" y="4610160"/>
            <a:ext cx="374760" cy="412560"/>
          </a:xfrm>
          <a:custGeom>
            <a:avLst/>
            <a:gdLst/>
            <a:ahLst/>
            <a:rect l="l" t="t" r="r" b="b"/>
            <a:pathLst>
              <a:path w="236" h="260">
                <a:moveTo>
                  <a:pt x="132" y="0"/>
                </a:moveTo>
                <a:lnTo>
                  <a:pt x="234" y="0"/>
                </a:lnTo>
                <a:lnTo>
                  <a:pt x="236" y="256"/>
                </a:lnTo>
                <a:lnTo>
                  <a:pt x="0" y="260"/>
                </a:lnTo>
                <a:lnTo>
                  <a:pt x="0" y="20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87760" y="4513320"/>
            <a:ext cx="377640" cy="428400"/>
          </a:xfrm>
          <a:custGeom>
            <a:avLst/>
            <a:gdLst/>
            <a:ahLst/>
            <a:rect l="l" t="t" r="r" b="b"/>
            <a:pathLst>
              <a:path w="238" h="270">
                <a:moveTo>
                  <a:pt x="238" y="0"/>
                </a:moveTo>
                <a:lnTo>
                  <a:pt x="140" y="1"/>
                </a:lnTo>
                <a:lnTo>
                  <a:pt x="136" y="209"/>
                </a:lnTo>
                <a:lnTo>
                  <a:pt x="0" y="209"/>
                </a:lnTo>
                <a:lnTo>
                  <a:pt x="0" y="269"/>
                </a:lnTo>
                <a:lnTo>
                  <a:pt x="238" y="270"/>
                </a:lnTo>
                <a:lnTo>
                  <a:pt x="238" y="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443700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4581360"/>
            <a:ext cx="215640" cy="208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54400" y="477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55640" y="1268280"/>
            <a:ext cx="5184720" cy="374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-36360" y="5969160"/>
            <a:ext cx="66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92440" y="5156280"/>
            <a:ext cx="2004840" cy="1440"/>
          </a:xfrm>
          <a:custGeom>
            <a:avLst/>
            <a:gdLst/>
            <a:ahLst/>
            <a:rect l="l" t="t" r="r" b="b"/>
            <a:pathLst>
              <a:path w="1263" h="1">
                <a:moveTo>
                  <a:pt x="1263" y="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7960" y="2219400"/>
            <a:ext cx="1800" cy="1384200"/>
          </a:xfrm>
          <a:custGeom>
            <a:avLst/>
            <a:gdLst/>
            <a:ahLst/>
            <a:rect l="l" t="t" r="r" b="b"/>
            <a:pathLst>
              <a:path w="1" h="872">
                <a:moveTo>
                  <a:pt x="0" y="0"/>
                </a:moveTo>
                <a:lnTo>
                  <a:pt x="0" y="87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2451240"/>
            <a:ext cx="11160" cy="1366560"/>
          </a:xfrm>
          <a:custGeom>
            <a:avLst/>
            <a:gdLst/>
            <a:ahLst/>
            <a:rect l="l" t="t" r="r" b="b"/>
            <a:pathLst>
              <a:path w="7" h="861">
                <a:moveTo>
                  <a:pt x="0" y="861"/>
                </a:moveTo>
                <a:lnTo>
                  <a:pt x="7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76440" y="1085760"/>
            <a:ext cx="2146320" cy="1800"/>
          </a:xfrm>
          <a:custGeom>
            <a:avLst/>
            <a:gdLst/>
            <a:ahLst/>
            <a:rect l="l" t="t" r="r" b="b"/>
            <a:pathLst>
              <a:path w="1352" h="1">
                <a:moveTo>
                  <a:pt x="0" y="0"/>
                </a:moveTo>
                <a:lnTo>
                  <a:pt x="135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68840" y="774720"/>
            <a:ext cx="1187640" cy="1066680"/>
          </a:xfrm>
          <a:custGeom>
            <a:avLst/>
            <a:gdLst/>
            <a:ahLst/>
            <a:rect l="l" t="t" r="r" b="b"/>
            <a:pathLst>
              <a:path w="748" h="672">
                <a:moveTo>
                  <a:pt x="748" y="0"/>
                </a:moveTo>
                <a:lnTo>
                  <a:pt x="240" y="31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08560" y="1314360"/>
            <a:ext cx="558720" cy="368280"/>
          </a:xfrm>
          <a:custGeom>
            <a:avLst/>
            <a:gdLst/>
            <a:ahLst/>
            <a:rect l="l" t="t" r="r" b="b"/>
            <a:pathLst>
              <a:path w="352" h="232">
                <a:moveTo>
                  <a:pt x="0" y="8"/>
                </a:moveTo>
                <a:lnTo>
                  <a:pt x="352" y="0"/>
                </a:lnTo>
                <a:lnTo>
                  <a:pt x="176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24480" y="1293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89440" y="1479600"/>
            <a:ext cx="203400" cy="514440"/>
          </a:xfrm>
          <a:custGeom>
            <a:avLst/>
            <a:gdLst/>
            <a:ahLst/>
            <a:rect l="l" t="t" r="r" b="b"/>
            <a:pathLst>
              <a:path w="128" h="324">
                <a:moveTo>
                  <a:pt x="128" y="324"/>
                </a:moveTo>
                <a:lnTo>
                  <a:pt x="128" y="0"/>
                </a:lnTo>
                <a:lnTo>
                  <a:pt x="0" y="2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1811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00720" y="1230480"/>
            <a:ext cx="2843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BND/BND touching segment B is right (R)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source segments A1 and A2, it is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enerated edges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gments ar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97200" y="981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91040" y="1363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97400" y="1616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3409920"/>
            <a:ext cx="941400" cy="660600"/>
          </a:xfrm>
          <a:custGeom>
            <a:avLst/>
            <a:gdLst/>
            <a:ahLst/>
            <a:rect l="l" t="t" r="r" b="b"/>
            <a:pathLst>
              <a:path w="593" h="416">
                <a:moveTo>
                  <a:pt x="593" y="100"/>
                </a:moveTo>
                <a:lnTo>
                  <a:pt x="85" y="41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91040" y="3635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1040" y="4067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14840" y="4629240"/>
            <a:ext cx="1543320" cy="981000"/>
          </a:xfrm>
          <a:custGeom>
            <a:avLst/>
            <a:gdLst/>
            <a:ahLst/>
            <a:rect l="l" t="t" r="r" b="b"/>
            <a:pathLst>
              <a:path w="972" h="618">
                <a:moveTo>
                  <a:pt x="972" y="0"/>
                </a:moveTo>
                <a:lnTo>
                  <a:pt x="264" y="228"/>
                </a:lnTo>
                <a:lnTo>
                  <a:pt x="0" y="618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0760" y="49737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91040" y="46101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81600" y="4543560"/>
            <a:ext cx="200160" cy="819000"/>
          </a:xfrm>
          <a:custGeom>
            <a:avLst/>
            <a:gdLst/>
            <a:ahLst/>
            <a:rect l="l" t="t" r="r" b="b"/>
            <a:pathLst>
              <a:path w="126" h="516">
                <a:moveTo>
                  <a:pt x="126" y="0"/>
                </a:moveTo>
                <a:lnTo>
                  <a:pt x="114" y="324"/>
                </a:lnTo>
                <a:lnTo>
                  <a:pt x="0" y="51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15040" y="5057640"/>
            <a:ext cx="485640" cy="352440"/>
          </a:xfrm>
          <a:custGeom>
            <a:avLst/>
            <a:gdLst/>
            <a:ahLst/>
            <a:rect l="l" t="t" r="r" b="b"/>
            <a:pathLst>
              <a:path w="306" h="222">
                <a:moveTo>
                  <a:pt x="0" y="12"/>
                </a:moveTo>
                <a:lnTo>
                  <a:pt x="306" y="0"/>
                </a:lnTo>
                <a:lnTo>
                  <a:pt x="150" y="22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83040" y="5122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40600" y="51195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rot="462000">
            <a:off x="7653240" y="310212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1210000">
            <a:off x="8373960" y="310176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2400" y="5229360"/>
            <a:ext cx="3240" cy="733320"/>
          </a:xfrm>
          <a:custGeom>
            <a:avLst/>
            <a:gdLst/>
            <a:ahLst/>
            <a:rect l="l" t="t" r="r" b="b"/>
            <a:pathLst>
              <a:path w="2" h="462">
                <a:moveTo>
                  <a:pt x="0" y="462"/>
                </a:moveTo>
                <a:lnTo>
                  <a:pt x="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5840" y="1809720"/>
            <a:ext cx="33336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5720" y="195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132120" y="23036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4320" y="230184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0320" y="4533840"/>
            <a:ext cx="106560" cy="666720"/>
          </a:xfrm>
          <a:custGeom>
            <a:avLst/>
            <a:gdLst/>
            <a:ahLst/>
            <a:rect l="l" t="t" r="r" b="b"/>
            <a:pathLst>
              <a:path w="67" h="420">
                <a:moveTo>
                  <a:pt x="0" y="420"/>
                </a:moveTo>
                <a:lnTo>
                  <a:pt x="67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98560" y="4762440"/>
            <a:ext cx="358920" cy="486000"/>
          </a:xfrm>
          <a:custGeom>
            <a:avLst/>
            <a:gdLst/>
            <a:ahLst/>
            <a:rect l="l" t="t" r="r" b="b"/>
            <a:pathLst>
              <a:path w="226" h="306">
                <a:moveTo>
                  <a:pt x="46" y="0"/>
                </a:moveTo>
                <a:lnTo>
                  <a:pt x="0" y="242"/>
                </a:lnTo>
                <a:lnTo>
                  <a:pt x="226" y="30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6240" y="5362560"/>
            <a:ext cx="295200" cy="466920"/>
          </a:xfrm>
          <a:custGeom>
            <a:avLst/>
            <a:gdLst/>
            <a:ahLst/>
            <a:rect l="l" t="t" r="r" b="b"/>
            <a:pathLst>
              <a:path w="186" h="294">
                <a:moveTo>
                  <a:pt x="0" y="294"/>
                </a:moveTo>
                <a:lnTo>
                  <a:pt x="6" y="0"/>
                </a:lnTo>
                <a:lnTo>
                  <a:pt x="186" y="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57160" y="4853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62600" y="5453640"/>
            <a:ext cx="3326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9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4280" y="4580640"/>
            <a:ext cx="332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25000" y="3381480"/>
            <a:ext cx="738000" cy="85680"/>
          </a:xfrm>
          <a:custGeom>
            <a:avLst/>
            <a:gdLst/>
            <a:ahLst/>
            <a:rect l="l" t="t" r="r" b="b"/>
            <a:pathLst>
              <a:path w="465" h="54">
                <a:moveTo>
                  <a:pt x="465" y="0"/>
                </a:moveTo>
                <a:lnTo>
                  <a:pt x="0" y="5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329680" y="2571840"/>
            <a:ext cx="119160" cy="838080"/>
          </a:xfrm>
          <a:custGeom>
            <a:avLst/>
            <a:gdLst/>
            <a:ahLst/>
            <a:rect l="l" t="t" r="r" b="b"/>
            <a:pathLst>
              <a:path w="75" h="528">
                <a:moveTo>
                  <a:pt x="0" y="528"/>
                </a:moveTo>
                <a:lnTo>
                  <a:pt x="75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462000">
            <a:off x="835344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65760" y="320688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54040" y="340200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41840" y="351324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77280" y="3343320"/>
            <a:ext cx="718920" cy="109440"/>
          </a:xfrm>
          <a:custGeom>
            <a:avLst/>
            <a:gdLst/>
            <a:ahLst/>
            <a:rect l="l" t="t" r="r" b="b"/>
            <a:pathLst>
              <a:path w="453" h="69">
                <a:moveTo>
                  <a:pt x="453" y="69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3960" y="2306520"/>
            <a:ext cx="38160" cy="551160"/>
          </a:xfrm>
          <a:custGeom>
            <a:avLst/>
            <a:gdLst/>
            <a:ahLst/>
            <a:rect l="l" t="t" r="r" b="b"/>
            <a:pathLst>
              <a:path w="24" h="347">
                <a:moveTo>
                  <a:pt x="24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95320" y="2487600"/>
            <a:ext cx="409680" cy="274680"/>
          </a:xfrm>
          <a:custGeom>
            <a:avLst/>
            <a:gdLst/>
            <a:ahLst/>
            <a:rect l="l" t="t" r="r" b="b"/>
            <a:pathLst>
              <a:path w="258" h="173">
                <a:moveTo>
                  <a:pt x="258" y="3"/>
                </a:moveTo>
                <a:lnTo>
                  <a:pt x="3" y="0"/>
                </a:lnTo>
                <a:lnTo>
                  <a:pt x="0" y="17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5840" y="2482920"/>
            <a:ext cx="333360" cy="298440"/>
          </a:xfrm>
          <a:custGeom>
            <a:avLst/>
            <a:gdLst/>
            <a:ahLst/>
            <a:rect l="l" t="t" r="r" b="b"/>
            <a:pathLst>
              <a:path w="210" h="188">
                <a:moveTo>
                  <a:pt x="0" y="0"/>
                </a:moveTo>
                <a:lnTo>
                  <a:pt x="210" y="6"/>
                </a:lnTo>
                <a:lnTo>
                  <a:pt x="174" y="18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81280" y="2496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2720" y="2492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122400" y="2106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4600" y="2104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7596360" y="1054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56440" y="11984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39000" y="125424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317080" y="119844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244000" y="1127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96360" y="1989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17080" y="213372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839000" y="2189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17080" y="2133720"/>
            <a:ext cx="293400" cy="144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44000" y="2060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96360" y="2924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302200">
            <a:off x="8413920" y="2995560"/>
            <a:ext cx="43164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839000" y="3124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12040" y="2927520"/>
            <a:ext cx="304920" cy="355320"/>
          </a:xfrm>
          <a:custGeom>
            <a:avLst/>
            <a:gdLst/>
            <a:ahLst/>
            <a:rect l="l" t="t" r="r" b="b"/>
            <a:pathLst>
              <a:path w="192" h="224">
                <a:moveTo>
                  <a:pt x="192" y="0"/>
                </a:moveTo>
                <a:lnTo>
                  <a:pt x="0" y="224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44000" y="321300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5520" y="4911840"/>
            <a:ext cx="660240" cy="663480"/>
          </a:xfrm>
          <a:custGeom>
            <a:avLst/>
            <a:gdLst/>
            <a:ahLst/>
            <a:rect l="l" t="t" r="r" b="b"/>
            <a:pathLst>
              <a:path w="416" h="418">
                <a:moveTo>
                  <a:pt x="416" y="410"/>
                </a:moveTo>
                <a:lnTo>
                  <a:pt x="0" y="418"/>
                </a:lnTo>
                <a:lnTo>
                  <a:pt x="376" y="0"/>
                </a:lnTo>
                <a:lnTo>
                  <a:pt x="416" y="410"/>
                </a:lnTo>
                <a:close/>
              </a:path>
            </a:pathLst>
          </a:cu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8560" y="4795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5280" y="4843440"/>
            <a:ext cx="649440" cy="747720"/>
          </a:xfrm>
          <a:custGeom>
            <a:avLst/>
            <a:gdLst/>
            <a:ahLst/>
            <a:rect l="l" t="t" r="r" b="b"/>
            <a:pathLst>
              <a:path w="409" h="471">
                <a:moveTo>
                  <a:pt x="0" y="471"/>
                </a:moveTo>
                <a:lnTo>
                  <a:pt x="409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1760" y="496584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5680" y="558792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55008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8600" y="4603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2720" y="550692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2560" y="4579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8120" y="5156280"/>
            <a:ext cx="77760" cy="2887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92160" y="554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”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687680" y="126216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148360" y="126828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687680" y="407052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5148360" y="407664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0" name=""/>
          <p:cNvSpPr/>
          <p:nvPr/>
        </p:nvSpPr>
        <p:spPr>
          <a:xfrm>
            <a:off x="147600" y="524988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85960" y="464040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08200" y="515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23840" y="470700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82440" y="4865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093080" y="1187280"/>
            <a:ext cx="20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e matrix telling if the de9im matrix cells ha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their final value (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or not yet (fal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48360" y="3716280"/>
            <a:ext cx="2051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s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ny operations do not need all cell values, they don’t care about some. So as soon as all necessary values are final, the comparison can st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State matrix does not need to be stored, alternately (better) a matrix of e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64000" y="1197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9im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35280" y="4060800"/>
            <a:ext cx="122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de9im matrix. Cell values can only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208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/p after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1" name=""/>
          <p:cNvSpPr/>
          <p:nvPr/>
        </p:nvSpPr>
        <p:spPr>
          <a:xfrm>
            <a:off x="34920" y="194472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3280" y="1328760"/>
            <a:ext cx="144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5160" y="18511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6872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1687680" y="3781440"/>
          <a:ext cx="1876320" cy="266868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&gt;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 w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4932360" y="378936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>
            <a:off x="6172200" y="1930320"/>
            <a:ext cx="635040" cy="1800"/>
          </a:xfrm>
          <a:custGeom>
            <a:avLst/>
            <a:gdLst/>
            <a:ahLst/>
            <a:rect l="l" t="t" r="r" b="b"/>
            <a:pathLst>
              <a:path w="400" h="1">
                <a:moveTo>
                  <a:pt x="0" y="0"/>
                </a:moveTo>
                <a:lnTo>
                  <a:pt x="40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60720" y="3048120"/>
            <a:ext cx="3556080" cy="583920"/>
          </a:xfrm>
          <a:custGeom>
            <a:avLst/>
            <a:gdLst/>
            <a:ahLst/>
            <a:rect l="l" t="t" r="r" b="b"/>
            <a:pathLst>
              <a:path w="2240" h="368">
                <a:moveTo>
                  <a:pt x="2240" y="0"/>
                </a:moveTo>
                <a:lnTo>
                  <a:pt x="0" y="368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06160" y="46054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948360" y="479736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71680" y="765000"/>
          <a:ext cx="1868040" cy="2232000"/>
        </p:xfrm>
        <a:graphic>
          <a:graphicData uri="http://schemas.openxmlformats.org/drawingml/2006/table">
            <a:tbl>
              <a:tblPr/>
              <a:tblGrid>
                <a:gridCol w="466200"/>
                <a:gridCol w="469440"/>
                <a:gridCol w="466200"/>
                <a:gridCol w="466200"/>
              </a:tblGrid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/s 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>
            <a:off x="3441600" y="1917720"/>
            <a:ext cx="698760" cy="1440"/>
          </a:xfrm>
          <a:custGeom>
            <a:avLst/>
            <a:gdLst/>
            <a:ahLst/>
            <a:rect l="l" t="t" r="r" b="b"/>
            <a:pathLst>
              <a:path w="440" h="1">
                <a:moveTo>
                  <a:pt x="0" y="0"/>
                </a:moveTo>
                <a:lnTo>
                  <a:pt x="44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9640" y="450684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6920" y="472428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1617840"/>
            <a:ext cx="115272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09640" y="1554120"/>
            <a:ext cx="344520" cy="36828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52200" y="8100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augmented s/s de9im matrix will cont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9280" y="549360"/>
          <a:ext cx="1876320" cy="2946240"/>
        </p:xfrm>
        <a:graphic>
          <a:graphicData uri="http://schemas.openxmlformats.org/drawingml/2006/table">
            <a:tbl>
              <a:tblPr/>
              <a:tblGrid>
                <a:gridCol w="468360"/>
                <a:gridCol w="471600"/>
                <a:gridCol w="468360"/>
                <a:gridCol w="46800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llinear) oppo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5940360" y="83520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8120" y="54936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46960" y="777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18280" y="12574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34200" y="771480"/>
            <a:ext cx="584280" cy="88920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73880" y="87948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1240" y="633096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29240" y="570240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351480" y="62373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578808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26080" y="5946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01680" y="524988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54360" y="5380200"/>
            <a:ext cx="276120" cy="555480"/>
          </a:xfrm>
          <a:custGeom>
            <a:avLst/>
            <a:gdLst/>
            <a:ahLst/>
            <a:rect l="l" t="t" r="r" b="b"/>
            <a:pathLst>
              <a:path w="174" h="350">
                <a:moveTo>
                  <a:pt x="174" y="35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50920" y="58500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65440" y="555768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65440" y="59007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621080" y="522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75360" y="5597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7159680" y="11592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7159680" y="3716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2627280" y="378936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950760" y="52563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8720" y="5054760"/>
            <a:ext cx="393840" cy="863280"/>
          </a:xfrm>
          <a:custGeom>
            <a:avLst/>
            <a:gdLst/>
            <a:ahLst/>
            <a:rect l="l" t="t" r="r" b="b"/>
            <a:pathLst>
              <a:path w="248" h="544">
                <a:moveTo>
                  <a:pt x="0" y="0"/>
                </a:moveTo>
                <a:lnTo>
                  <a:pt x="248" y="54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00000" y="585612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4520" y="556416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4520" y="59072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580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840040" y="549360"/>
          <a:ext cx="187632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"/>
          <p:cNvSpPr/>
          <p:nvPr/>
        </p:nvSpPr>
        <p:spPr>
          <a:xfrm>
            <a:off x="2270160" y="1576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7113600" y="18900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755640" y="2620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6568920" y="90792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56320" y="1619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91160" y="155880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4800" y="2019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67920" y="24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4000" y="156996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" y="54936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8480" y="15256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3160" y="4695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1960" y="58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08000" y="549108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6000" y="486576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0280" y="5487840"/>
            <a:ext cx="73152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8240" y="5400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84240" y="495144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69720" y="4960800"/>
            <a:ext cx="33372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42840" y="5110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9960" y="5105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2050920" y="401148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16360" y="5454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98200" y="5452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3995640" y="401004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3" name=""/>
          <p:cNvSpPr/>
          <p:nvPr/>
        </p:nvSpPr>
        <p:spPr>
          <a:xfrm>
            <a:off x="1018800" y="554040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9320" y="5560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90840" y="87948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32080" y="476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322800" y="1484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65920" y="53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503520" y="2313000"/>
            <a:ext cx="177840" cy="723960"/>
          </a:xfrm>
          <a:custGeom>
            <a:avLst/>
            <a:gdLst/>
            <a:ahLst/>
            <a:rect l="l" t="t" r="r" b="b"/>
            <a:pathLst>
              <a:path w="112" h="456">
                <a:moveTo>
                  <a:pt x="112" y="0"/>
                </a:moveTo>
                <a:lnTo>
                  <a:pt x="0" y="45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74920" y="2147760"/>
            <a:ext cx="177840" cy="889200"/>
          </a:xfrm>
          <a:custGeom>
            <a:avLst/>
            <a:gdLst/>
            <a:ahLst/>
            <a:rect l="l" t="t" r="r" b="b"/>
            <a:pathLst>
              <a:path w="112" h="560">
                <a:moveTo>
                  <a:pt x="0" y="0"/>
                </a:moveTo>
                <a:lnTo>
                  <a:pt x="112" y="56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03440" y="300816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01800" y="2360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13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97440" y="1108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28720" y="1036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911760" y="260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50920" y="150840"/>
          <a:ext cx="1584360" cy="5356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tou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19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, 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ver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401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567320" y="150840"/>
          <a:ext cx="1584360" cy="4030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EQ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6718320" y="150840"/>
          <a:ext cx="1584360" cy="32148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order 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1" name=""/>
          <p:cNvSpPr/>
          <p:nvPr/>
        </p:nvSpPr>
        <p:spPr>
          <a:xfrm>
            <a:off x="247680" y="56520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50920" y="1411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1508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2320" y="14940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41480" y="1476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1480" y="57168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39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4400" y="9367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7640" y="585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49400" y="584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38200" y="5824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38200" y="94284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13352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6480" y="13366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65520" y="86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39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544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5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53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10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5400" y="33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06280" y="54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5244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524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0628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540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94000" y="55728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7240" y="1555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97240" y="1652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98640" y="1634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87800" y="162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91040" y="5634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89280" y="95580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386080" y="9572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10280" y="258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95720" y="13413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98960" y="9399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98960" y="9493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600360" y="9478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84480" y="9381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84480" y="13399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91000" y="17398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87800" y="174132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511800" y="126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256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302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7176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5264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016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9970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85264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7176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27320" y="1457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3200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57280" y="907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652560" y="905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9872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98720" y="13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5256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25908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57600" y="54756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60840" y="1461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0840" y="1555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62600" y="1540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51400" y="1522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54640" y="5540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94608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49680" y="9478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84880" y="9507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384880" y="5493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88120" y="558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89520" y="557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73640" y="5475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173640" y="9493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00960" y="87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48920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942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53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0162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656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6096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1624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3536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1648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2116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46440" y="51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41720" y="514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98788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87880" y="99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84172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4824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69000" y="13510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365800" y="135252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719760" y="54468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723000" y="1429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723000" y="15228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124760" y="1508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513560" y="14940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516800" y="5508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115040" y="94284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11840" y="9446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36040" y="24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40560" y="109044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540560" y="689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9840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945560" y="69696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29680" y="687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329680" y="1089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56640" y="101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5136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6564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79752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7840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278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32312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17840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79752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472160" y="120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7684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0248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997760" y="65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14356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43560" y="11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99776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0392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924680" y="14907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1480" y="14922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14240" y="631800"/>
            <a:ext cx="7920" cy="287280"/>
          </a:xfrm>
          <a:custGeom>
            <a:avLst/>
            <a:gdLst/>
            <a:ahLst/>
            <a:rect l="l" t="t" r="r" b="b"/>
            <a:pathLst>
              <a:path w="5" h="181">
                <a:moveTo>
                  <a:pt x="0" y="181"/>
                </a:moveTo>
                <a:lnTo>
                  <a:pt x="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2960" y="96984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9760" y="9716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928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150920" y="64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67960" y="797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5440" y="76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4000" y="690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7640" y="576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246480" y="85716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13320" y="480960"/>
            <a:ext cx="258840" cy="12600"/>
          </a:xfrm>
          <a:custGeom>
            <a:avLst/>
            <a:gdLst/>
            <a:ahLst/>
            <a:rect l="l" t="t" r="r" b="b"/>
            <a:pathLst>
              <a:path w="163" h="8">
                <a:moveTo>
                  <a:pt x="0" y="8"/>
                </a:moveTo>
                <a:lnTo>
                  <a:pt x="16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67560" y="62532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054080" y="495360"/>
            <a:ext cx="255600" cy="1440"/>
          </a:xfrm>
          <a:custGeom>
            <a:avLst/>
            <a:gdLst/>
            <a:ahLst/>
            <a:rect l="l" t="t" r="r" b="b"/>
            <a:pathLst>
              <a:path w="161" h="1">
                <a:moveTo>
                  <a:pt x="0" y="0"/>
                </a:moveTo>
                <a:lnTo>
                  <a:pt x="1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"/>
          <p:cNvGraphicFramePr/>
          <p:nvPr/>
        </p:nvGraphicFramePr>
        <p:xfrm>
          <a:off x="250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401920" y="150840"/>
          <a:ext cx="1584360" cy="2995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corner 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45673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6718320" y="150840"/>
          <a:ext cx="1584360" cy="3232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6" name=""/>
          <p:cNvSpPr/>
          <p:nvPr/>
        </p:nvSpPr>
        <p:spPr>
          <a:xfrm>
            <a:off x="4562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60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560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57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38720" y="152280"/>
            <a:ext cx="972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148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357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57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06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498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380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403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56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56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0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730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2880" y="554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6120" y="15228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6120" y="16200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7880" y="160200"/>
            <a:ext cx="387360" cy="504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066680" y="1587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9920" y="5605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8160" y="9525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64960" y="9540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89160" y="255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0448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95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064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3152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809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7624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3152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5064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057320" y="54936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054080" y="142920"/>
            <a:ext cx="365040" cy="39672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32080" y="15552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49360"/>
            <a:ext cx="384120" cy="39672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347840" y="474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01560" y="539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90520" y="582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50920" y="276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439640" y="26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417760" y="56052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421000" y="1587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21000" y="16812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822400" y="1666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11560" y="165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214800" y="5666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813040" y="95868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09840" y="9604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4040" y="26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493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5404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9552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02580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207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7640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9552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20920" y="714240"/>
            <a:ext cx="371520" cy="38448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218040" y="307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95680" y="32076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11520" y="714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11800" y="639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65520" y="70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4120" y="7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314520" y="44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03600" y="43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81640" y="93024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78400" y="523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56400" y="5364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72240" y="930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72520" y="855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825880" y="9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514840" y="96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47524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63960" y="64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713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711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11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08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900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299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508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708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824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57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49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151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4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07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07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661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881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532640" y="134928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29400" y="942840"/>
            <a:ext cx="36540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907400" y="9558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923240" y="134928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823520" y="1274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76880" y="133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665840" y="138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626240" y="10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91496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16000" y="189000"/>
            <a:ext cx="14148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114560" y="700200"/>
            <a:ext cx="257040" cy="23796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60880" y="318960"/>
            <a:ext cx="14112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59080" y="830160"/>
            <a:ext cx="257400" cy="23832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838840" y="581040"/>
            <a:ext cx="262080" cy="571320"/>
          </a:xfrm>
          <a:custGeom>
            <a:avLst/>
            <a:gdLst/>
            <a:ahLst/>
            <a:rect l="l" t="t" r="r" b="b"/>
            <a:pathLst>
              <a:path w="165" h="360">
                <a:moveTo>
                  <a:pt x="165" y="0"/>
                </a:moveTo>
                <a:lnTo>
                  <a:pt x="165" y="183"/>
                </a:lnTo>
                <a:lnTo>
                  <a:pt x="0" y="3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891040" y="585720"/>
            <a:ext cx="314640" cy="695520"/>
          </a:xfrm>
          <a:custGeom>
            <a:avLst/>
            <a:gdLst/>
            <a:ahLst/>
            <a:rect l="l" t="t" r="r" b="b"/>
            <a:pathLst>
              <a:path w="198" h="438">
                <a:moveTo>
                  <a:pt x="0" y="0"/>
                </a:moveTo>
                <a:lnTo>
                  <a:pt x="198" y="225"/>
                </a:lnTo>
                <a:lnTo>
                  <a:pt x="198" y="4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85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1116000" y="1697040"/>
          <a:ext cx="1584360" cy="1587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ygon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x-dim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0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781360"/>
            <a:ext cx="93636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1760" y="378936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create the de9im of polygon/polygon 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e9im’s of all segment/segment inter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"/>
          <p:cNvGraphicFramePr/>
          <p:nvPr/>
        </p:nvGraphicFramePr>
        <p:xfrm>
          <a:off x="249120" y="150840"/>
          <a:ext cx="1584360" cy="3470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2400480" y="150840"/>
          <a:ext cx="1584000" cy="36180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inters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2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8" name=""/>
          <p:cNvSpPr/>
          <p:nvPr/>
        </p:nvSpPr>
        <p:spPr>
          <a:xfrm>
            <a:off x="244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3000" y="146160"/>
            <a:ext cx="612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43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0396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208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30240" y="947880"/>
            <a:ext cx="504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0396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39760" y="1733400"/>
            <a:ext cx="79992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56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886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07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45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0857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6380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380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919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125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94000" y="146160"/>
            <a:ext cx="15840" cy="81108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94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191040" y="157320"/>
            <a:ext cx="4680" cy="78552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419200" y="942840"/>
            <a:ext cx="771840" cy="504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07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34144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496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04920" y="23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0320" y="73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47640" y="17240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35040" y="93672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434960" y="949320"/>
            <a:ext cx="3240" cy="76824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47640" y="9493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959040" y="127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4272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4760" y="1519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81040" y="106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411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87480" y="13334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74880" y="546120"/>
            <a:ext cx="80352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575160" y="558720"/>
            <a:ext cx="3240" cy="76860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787480" y="5587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82920" y="6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74960" y="11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81320" y="52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1680" y="981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23960" y="1362240"/>
            <a:ext cx="280800" cy="30456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4573440" y="14616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ith ho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3" name=""/>
          <p:cNvSpPr/>
          <p:nvPr/>
        </p:nvSpPr>
        <p:spPr>
          <a:xfrm>
            <a:off x="4567320" y="141120"/>
            <a:ext cx="1404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56732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15312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8136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6803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50828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352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925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0208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40864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39604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19596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40864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97852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49576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33556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80212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80248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965840" y="533520"/>
            <a:ext cx="419040" cy="12600"/>
          </a:xfrm>
          <a:custGeom>
            <a:avLst/>
            <a:gdLst/>
            <a:ahLst/>
            <a:rect l="l" t="t" r="r" b="b"/>
            <a:pathLst>
              <a:path w="264" h="8">
                <a:moveTo>
                  <a:pt x="264" y="0"/>
                </a:moveTo>
                <a:lnTo>
                  <a:pt x="0" y="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71960" y="571680"/>
            <a:ext cx="6480" cy="368280"/>
          </a:xfrm>
          <a:custGeom>
            <a:avLst/>
            <a:gdLst/>
            <a:ahLst/>
            <a:rect l="l" t="t" r="r" b="b"/>
            <a:pathLst>
              <a:path w="4" h="232">
                <a:moveTo>
                  <a:pt x="4" y="0"/>
                </a:moveTo>
                <a:lnTo>
                  <a:pt x="0" y="232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356080" y="53352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65840" y="946080"/>
            <a:ext cx="393480" cy="1800"/>
          </a:xfrm>
          <a:custGeom>
            <a:avLst/>
            <a:gdLst/>
            <a:ahLst/>
            <a:rect l="l" t="t" r="r" b="b"/>
            <a:pathLst>
              <a:path w="248" h="1">
                <a:moveTo>
                  <a:pt x="0" y="0"/>
                </a:moveTo>
                <a:lnTo>
                  <a:pt x="24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876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0353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18148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849400" y="596880"/>
            <a:ext cx="281160" cy="30492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072040" y="34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743440" y="961920"/>
            <a:ext cx="31464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743440" y="590400"/>
            <a:ext cx="314640" cy="228600"/>
          </a:xfrm>
          <a:custGeom>
            <a:avLst/>
            <a:gdLst/>
            <a:ahLst/>
            <a:rect l="l" t="t" r="r" b="b"/>
            <a:pathLst>
              <a:path w="198" h="144">
                <a:moveTo>
                  <a:pt x="0" y="0"/>
                </a:moveTo>
                <a:lnTo>
                  <a:pt x="198" y="0"/>
                </a:lnTo>
                <a:lnTo>
                  <a:pt x="198" y="1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138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156360" y="1241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346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346720" y="88092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720880" y="671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232080" y="184320"/>
            <a:ext cx="327240" cy="301320"/>
          </a:xfrm>
          <a:custGeom>
            <a:avLst/>
            <a:gdLst/>
            <a:ahLst/>
            <a:rect l="l" t="t" r="r" b="b"/>
            <a:pathLst>
              <a:path w="206" h="190">
                <a:moveTo>
                  <a:pt x="0" y="0"/>
                </a:moveTo>
                <a:lnTo>
                  <a:pt x="0" y="190"/>
                </a:lnTo>
                <a:lnTo>
                  <a:pt x="206" y="18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6769080" y="15084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‘hole like’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9" name=""/>
          <p:cNvSpPr/>
          <p:nvPr/>
        </p:nvSpPr>
        <p:spPr>
          <a:xfrm>
            <a:off x="6777000" y="955800"/>
            <a:ext cx="4680" cy="772920"/>
          </a:xfrm>
          <a:custGeom>
            <a:avLst/>
            <a:gdLst/>
            <a:ahLst/>
            <a:rect l="l" t="t" r="r" b="b"/>
            <a:pathLst>
              <a:path w="3" h="487">
                <a:moveTo>
                  <a:pt x="0" y="487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762600" y="146160"/>
            <a:ext cx="1597320" cy="14040"/>
          </a:xfrm>
          <a:custGeom>
            <a:avLst/>
            <a:gdLst/>
            <a:ahLst/>
            <a:rect l="l" t="t" r="r" b="b"/>
            <a:pathLst>
              <a:path w="1006" h="9">
                <a:moveTo>
                  <a:pt x="0" y="9"/>
                </a:moveTo>
                <a:lnTo>
                  <a:pt x="10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348760" y="16200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777000" y="1738440"/>
            <a:ext cx="1571760" cy="936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8756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03920" y="2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991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188200" y="64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497720" y="15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604280" y="1316160"/>
            <a:ext cx="736560" cy="4680"/>
          </a:xfrm>
          <a:custGeom>
            <a:avLst/>
            <a:gdLst/>
            <a:ahLst/>
            <a:rect l="l" t="t" r="r" b="b"/>
            <a:pathLst>
              <a:path w="464" h="3">
                <a:moveTo>
                  <a:pt x="464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591320" y="528480"/>
            <a:ext cx="803520" cy="1296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385120" y="541440"/>
            <a:ext cx="6480" cy="769680"/>
          </a:xfrm>
          <a:custGeom>
            <a:avLst/>
            <a:gdLst/>
            <a:ahLst/>
            <a:rect l="l" t="t" r="r" b="b"/>
            <a:pathLst>
              <a:path w="4" h="485">
                <a:moveTo>
                  <a:pt x="4" y="0"/>
                </a:moveTo>
                <a:lnTo>
                  <a:pt x="0" y="485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601040" y="536400"/>
            <a:ext cx="144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173800" y="94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691400" y="108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997760" y="5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998120" y="9381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762600" y="538200"/>
            <a:ext cx="817560" cy="7920"/>
          </a:xfrm>
          <a:custGeom>
            <a:avLst/>
            <a:gdLst/>
            <a:ahLst/>
            <a:rect l="l" t="t" r="r" b="b"/>
            <a:pathLst>
              <a:path w="515" h="5">
                <a:moveTo>
                  <a:pt x="515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545240" y="53820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794640" y="950760"/>
            <a:ext cx="760320" cy="1800"/>
          </a:xfrm>
          <a:custGeom>
            <a:avLst/>
            <a:gdLst/>
            <a:ahLst/>
            <a:rect l="l" t="t" r="r" b="b"/>
            <a:pathLst>
              <a:path w="479" h="1">
                <a:moveTo>
                  <a:pt x="0" y="1"/>
                </a:moveTo>
                <a:lnTo>
                  <a:pt x="47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721200" y="115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230960" y="91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70640" y="64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67320" y="35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939080" y="966960"/>
            <a:ext cx="31428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667640" y="571680"/>
            <a:ext cx="266760" cy="336240"/>
          </a:xfrm>
          <a:custGeom>
            <a:avLst/>
            <a:gdLst/>
            <a:ahLst/>
            <a:rect l="l" t="t" r="r" b="b"/>
            <a:pathLst>
              <a:path w="168" h="212">
                <a:moveTo>
                  <a:pt x="0" y="212"/>
                </a:moveTo>
                <a:lnTo>
                  <a:pt x="0" y="0"/>
                </a:lnTo>
                <a:lnTo>
                  <a:pt x="168" y="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762600" y="144360"/>
            <a:ext cx="5040" cy="405000"/>
          </a:xfrm>
          <a:custGeom>
            <a:avLst/>
            <a:gdLst/>
            <a:ahLst/>
            <a:rect l="l" t="t" r="r" b="b"/>
            <a:pathLst>
              <a:path w="3" h="255">
                <a:moveTo>
                  <a:pt x="0" y="255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534080" y="95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"/>
          <p:cNvGraphicFramePr/>
          <p:nvPr/>
        </p:nvGraphicFramePr>
        <p:xfrm>
          <a:off x="2491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disj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8" name=""/>
          <p:cNvSpPr/>
          <p:nvPr/>
        </p:nvSpPr>
        <p:spPr>
          <a:xfrm>
            <a:off x="235080" y="141120"/>
            <a:ext cx="15840" cy="81144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35080" y="14760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31760" y="152280"/>
            <a:ext cx="504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6028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77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252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380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46000" y="23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0300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419120" y="1733400"/>
            <a:ext cx="419040" cy="1800"/>
          </a:xfrm>
          <a:custGeom>
            <a:avLst/>
            <a:gdLst/>
            <a:ahLst/>
            <a:rect l="l" t="t" r="r" b="b"/>
            <a:pathLst>
              <a:path w="264" h="1">
                <a:moveTo>
                  <a:pt x="26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457280" y="1324080"/>
            <a:ext cx="352440" cy="9360"/>
          </a:xfrm>
          <a:custGeom>
            <a:avLst/>
            <a:gdLst/>
            <a:ahLst/>
            <a:rect l="l" t="t" r="r" b="b"/>
            <a:pathLst>
              <a:path w="222" h="6">
                <a:moveTo>
                  <a:pt x="0" y="0"/>
                </a:moveTo>
                <a:lnTo>
                  <a:pt x="222" y="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809720" y="1324080"/>
            <a:ext cx="19080" cy="399960"/>
          </a:xfrm>
          <a:custGeom>
            <a:avLst/>
            <a:gdLst/>
            <a:ahLst/>
            <a:rect l="l" t="t" r="r" b="b"/>
            <a:pathLst>
              <a:path w="12" h="252">
                <a:moveTo>
                  <a:pt x="0" y="0"/>
                </a:moveTo>
                <a:lnTo>
                  <a:pt x="12" y="25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438200" y="1324080"/>
            <a:ext cx="19080" cy="390600"/>
          </a:xfrm>
          <a:custGeom>
            <a:avLst/>
            <a:gdLst/>
            <a:ahLst/>
            <a:rect l="l" t="t" r="r" b="b"/>
            <a:pathLst>
              <a:path w="12" h="246">
                <a:moveTo>
                  <a:pt x="0" y="246"/>
                </a:moveTo>
                <a:lnTo>
                  <a:pt x="12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508400" y="1380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2406600" y="150840"/>
          <a:ext cx="1584360" cy="3190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eq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2403360" y="141120"/>
            <a:ext cx="5040" cy="81144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92200" y="14760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189240" y="15228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1776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50524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35584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95520" y="13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97000" y="2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76048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36840" y="96048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4240" y="171360"/>
            <a:ext cx="798480" cy="14400"/>
          </a:xfrm>
          <a:custGeom>
            <a:avLst/>
            <a:gdLst/>
            <a:ahLst/>
            <a:rect l="l" t="t" r="r" b="b"/>
            <a:pathLst>
              <a:path w="503" h="9">
                <a:moveTo>
                  <a:pt x="0" y="9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224160" y="185760"/>
            <a:ext cx="7920" cy="76500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427120" y="18108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006720" y="5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523960" y="73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363760" y="2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830320" y="13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773440" y="476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6784920" y="150840"/>
          <a:ext cx="1584360" cy="2624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with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2" name=""/>
          <p:cNvSpPr/>
          <p:nvPr/>
        </p:nvSpPr>
        <p:spPr>
          <a:xfrm>
            <a:off x="6765840" y="141120"/>
            <a:ext cx="1440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6584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35200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024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888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071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502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13564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50096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18812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17552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97544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18812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75800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27524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1150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58160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58196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4572000" y="131760"/>
          <a:ext cx="1584360" cy="315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segments dif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1" name=""/>
          <p:cNvSpPr/>
          <p:nvPr/>
        </p:nvSpPr>
        <p:spPr>
          <a:xfrm>
            <a:off x="4568760" y="122400"/>
            <a:ext cx="4680" cy="81108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57600" y="12852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354640" y="13320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968720" y="914400"/>
            <a:ext cx="385920" cy="468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70640" y="2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520880" y="5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6092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62400" y="21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078160" y="7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89640" y="155520"/>
            <a:ext cx="798480" cy="11160"/>
          </a:xfrm>
          <a:custGeom>
            <a:avLst/>
            <a:gdLst/>
            <a:ahLst/>
            <a:rect l="l" t="t" r="r" b="b"/>
            <a:pathLst>
              <a:path w="503" h="7">
                <a:moveTo>
                  <a:pt x="0" y="7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389560" y="16668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92520" y="16200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171760" y="569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57680" y="71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29160" y="27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995720" y="11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938840" y="457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583160" y="907920"/>
            <a:ext cx="385560" cy="504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02240" y="94140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786200" y="71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1" name=""/>
          <p:cNvGraphicFramePr/>
          <p:nvPr/>
        </p:nvGraphicFramePr>
        <p:xfrm>
          <a:off x="468360" y="333360"/>
          <a:ext cx="8206920" cy="6119640"/>
        </p:xfrm>
        <a:graphic>
          <a:graphicData uri="http://schemas.openxmlformats.org/drawingml/2006/table">
            <a:tbl>
              <a:tblPr/>
              <a:tblGrid>
                <a:gridCol w="2046600"/>
                <a:gridCol w="2064600"/>
                <a:gridCol w="2049120"/>
                <a:gridCol w="2046600"/>
              </a:tblGrid>
              <a:tr h="15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polygon/polygon, based 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 of segment/seg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 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== 0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589800" y="54936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268360" y="5526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583320" y="343548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 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97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836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836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0200" y="870120"/>
            <a:ext cx="1008000" cy="1081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4221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37162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4292640"/>
            <a:ext cx="936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62240" y="34290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583320" y="34322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57560" y="5382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1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585120" y="546120"/>
          <a:ext cx="158400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0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12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14972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37893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458136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957000">
            <a:off x="5627520" y="90756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3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2254320" y="53640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-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674640" y="8175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7000" y="16812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973840" y="11145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74840" y="1116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352680" y="1727280"/>
            <a:ext cx="3487680" cy="393480"/>
          </a:xfrm>
          <a:custGeom>
            <a:avLst/>
            <a:gdLst/>
            <a:ahLst/>
            <a:rect l="l" t="t" r="r" b="b"/>
            <a:pathLst>
              <a:path w="2197" h="248">
                <a:moveTo>
                  <a:pt x="0" y="0"/>
                </a:moveTo>
                <a:lnTo>
                  <a:pt x="2197" y="2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1720" y="1630440"/>
            <a:ext cx="520560" cy="12600"/>
          </a:xfrm>
          <a:custGeom>
            <a:avLst/>
            <a:gdLst/>
            <a:ahLst/>
            <a:rect l="l" t="t" r="r" b="b"/>
            <a:pathLst>
              <a:path w="328" h="8">
                <a:moveTo>
                  <a:pt x="0" y="8"/>
                </a:moveTo>
                <a:lnTo>
                  <a:pt x="32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995040" y="124308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2440" y="15638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15360" y="102708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91400">
            <a:off x="7827480" y="1098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44080" y="1208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2386080"/>
            <a:ext cx="673200" cy="609480"/>
          </a:xfrm>
          <a:custGeom>
            <a:avLst/>
            <a:gdLst/>
            <a:ahLst/>
            <a:rect l="l" t="t" r="r" b="b"/>
            <a:pathLst>
              <a:path w="424" h="384">
                <a:moveTo>
                  <a:pt x="0" y="384"/>
                </a:moveTo>
                <a:lnTo>
                  <a:pt x="424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6160" y="2741760"/>
            <a:ext cx="800280" cy="190440"/>
          </a:xfrm>
          <a:custGeom>
            <a:avLst/>
            <a:gdLst/>
            <a:ahLst/>
            <a:rect l="l" t="t" r="r" b="b"/>
            <a:pathLst>
              <a:path w="504" h="120">
                <a:moveTo>
                  <a:pt x="504" y="1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00" y="26575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864200">
            <a:off x="8405280" y="2035080"/>
            <a:ext cx="54000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92920" y="213192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7520" y="23479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59200" y="2184480"/>
            <a:ext cx="3875040" cy="36360"/>
          </a:xfrm>
          <a:custGeom>
            <a:avLst/>
            <a:gdLst/>
            <a:ahLst/>
            <a:rect l="l" t="t" r="r" b="b"/>
            <a:pathLst>
              <a:path w="2441" h="23">
                <a:moveTo>
                  <a:pt x="0" y="0"/>
                </a:moveTo>
                <a:lnTo>
                  <a:pt x="2441" y="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2160" y="2209680"/>
            <a:ext cx="1751040" cy="493920"/>
          </a:xfrm>
          <a:custGeom>
            <a:avLst/>
            <a:gdLst/>
            <a:ahLst/>
            <a:rect l="l" t="t" r="r" b="b"/>
            <a:pathLst>
              <a:path w="1103" h="311">
                <a:moveTo>
                  <a:pt x="0" y="311"/>
                </a:moveTo>
                <a:lnTo>
                  <a:pt x="1103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22360" y="1689120"/>
            <a:ext cx="1727280" cy="88920"/>
          </a:xfrm>
          <a:custGeom>
            <a:avLst/>
            <a:gdLst/>
            <a:ahLst/>
            <a:rect l="l" t="t" r="r" b="b"/>
            <a:pathLst>
              <a:path w="1088" h="56">
                <a:moveTo>
                  <a:pt x="0" y="0"/>
                </a:moveTo>
                <a:lnTo>
                  <a:pt x="1088" y="56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91360" y="290052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296200">
            <a:off x="8330760" y="295416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12120" y="28274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973840" y="3990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74840" y="399240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992320" y="4716360"/>
            <a:ext cx="3848040" cy="28116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1960" y="492444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49480" y="4606920"/>
            <a:ext cx="57600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38200" y="48672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09520" y="5346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13720" y="398952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34440" y="44942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01120" y="528624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18560" y="5430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27960" y="44625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5360" y="5415120"/>
            <a:ext cx="6480" cy="49500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56840" y="6305400"/>
            <a:ext cx="332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magenta): might change la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red): end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94036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0600" y="10922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281560" y="1701720"/>
            <a:ext cx="1970280" cy="127080"/>
          </a:xfrm>
          <a:custGeom>
            <a:avLst/>
            <a:gdLst/>
            <a:ahLst/>
            <a:rect l="l" t="t" r="r" b="b"/>
            <a:pathLst>
              <a:path w="1241" h="80">
                <a:moveTo>
                  <a:pt x="0" y="80"/>
                </a:moveTo>
                <a:lnTo>
                  <a:pt x="1241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15238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1080" y="2060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308240"/>
            <a:ext cx="177840" cy="1460520"/>
          </a:xfrm>
          <a:custGeom>
            <a:avLst/>
            <a:gdLst/>
            <a:ahLst/>
            <a:rect l="l" t="t" r="r" b="b"/>
            <a:pathLst>
              <a:path w="112" h="920">
                <a:moveTo>
                  <a:pt x="0" y="920"/>
                </a:moveTo>
                <a:lnTo>
                  <a:pt x="11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866960"/>
            <a:ext cx="1282680" cy="380880"/>
          </a:xfrm>
          <a:custGeom>
            <a:avLst/>
            <a:gdLst/>
            <a:ahLst/>
            <a:rect l="l" t="t" r="r" b="b"/>
            <a:pathLst>
              <a:path w="808" h="240">
                <a:moveTo>
                  <a:pt x="808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8480" y="2001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223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908680" y="393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209680" y="39736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301920" y="4940280"/>
            <a:ext cx="3473640" cy="112680"/>
          </a:xfrm>
          <a:custGeom>
            <a:avLst/>
            <a:gdLst/>
            <a:ahLst/>
            <a:rect l="l" t="t" r="r" b="b"/>
            <a:pathLst>
              <a:path w="2188" h="71">
                <a:moveTo>
                  <a:pt x="0" y="71"/>
                </a:moveTo>
                <a:lnTo>
                  <a:pt x="218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77760" y="503388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29880" y="42465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49766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720" y="364500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4437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0" y="43592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81560" y="1838160"/>
            <a:ext cx="1195560" cy="590760"/>
          </a:xfrm>
          <a:custGeom>
            <a:avLst/>
            <a:gdLst/>
            <a:ahLst/>
            <a:rect l="l" t="t" r="r" b="b"/>
            <a:pathLst>
              <a:path w="753" h="372">
                <a:moveTo>
                  <a:pt x="0" y="0"/>
                </a:moveTo>
                <a:lnTo>
                  <a:pt x="753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1280" y="1843200"/>
            <a:ext cx="1195200" cy="223560"/>
          </a:xfrm>
          <a:custGeom>
            <a:avLst/>
            <a:gdLst/>
            <a:ahLst/>
            <a:rect l="l" t="t" r="r" b="b"/>
            <a:pathLst>
              <a:path w="753" h="141">
                <a:moveTo>
                  <a:pt x="0" y="0"/>
                </a:moveTo>
                <a:lnTo>
                  <a:pt x="753" y="14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81560" y="1838160"/>
            <a:ext cx="1595520" cy="195480"/>
          </a:xfrm>
          <a:custGeom>
            <a:avLst/>
            <a:gdLst/>
            <a:ahLst/>
            <a:rect l="l" t="t" r="r" b="b"/>
            <a:pathLst>
              <a:path w="1005" h="123">
                <a:moveTo>
                  <a:pt x="0" y="0"/>
                </a:moveTo>
                <a:lnTo>
                  <a:pt x="1005" y="1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1280" y="1638360"/>
            <a:ext cx="1566720" cy="199800"/>
          </a:xfrm>
          <a:custGeom>
            <a:avLst/>
            <a:gdLst/>
            <a:ahLst/>
            <a:rect l="l" t="t" r="r" b="b"/>
            <a:pathLst>
              <a:path w="987" h="126">
                <a:moveTo>
                  <a:pt x="0" y="126"/>
                </a:moveTo>
                <a:lnTo>
                  <a:pt x="98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1280" y="1647720"/>
            <a:ext cx="1152360" cy="190440"/>
          </a:xfrm>
          <a:custGeom>
            <a:avLst/>
            <a:gdLst/>
            <a:ahLst/>
            <a:rect l="l" t="t" r="r" b="b"/>
            <a:pathLst>
              <a:path w="726" h="120">
                <a:moveTo>
                  <a:pt x="0" y="120"/>
                </a:moveTo>
                <a:lnTo>
                  <a:pt x="72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5960" y="1838160"/>
            <a:ext cx="1581120" cy="590760"/>
          </a:xfrm>
          <a:custGeom>
            <a:avLst/>
            <a:gdLst/>
            <a:ahLst/>
            <a:rect l="l" t="t" r="r" b="b"/>
            <a:pathLst>
              <a:path w="996" h="372">
                <a:moveTo>
                  <a:pt x="0" y="0"/>
                </a:moveTo>
                <a:lnTo>
                  <a:pt x="996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5960" y="1838160"/>
            <a:ext cx="1981080" cy="190800"/>
          </a:xfrm>
          <a:custGeom>
            <a:avLst/>
            <a:gdLst/>
            <a:ahLst/>
            <a:rect l="l" t="t" r="r" b="b"/>
            <a:pathLst>
              <a:path w="1248" h="120">
                <a:moveTo>
                  <a:pt x="0" y="0"/>
                </a:moveTo>
                <a:lnTo>
                  <a:pt x="1248" y="12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62360" y="1733400"/>
            <a:ext cx="2433600" cy="95400"/>
          </a:xfrm>
          <a:custGeom>
            <a:avLst/>
            <a:gdLst/>
            <a:ahLst/>
            <a:rect l="l" t="t" r="r" b="b"/>
            <a:pathLst>
              <a:path w="1533" h="60">
                <a:moveTo>
                  <a:pt x="0" y="0"/>
                </a:moveTo>
                <a:lnTo>
                  <a:pt x="1533" y="6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26560" y="2006640"/>
            <a:ext cx="1440" cy="609480"/>
          </a:xfrm>
          <a:custGeom>
            <a:avLst/>
            <a:gdLst/>
            <a:ahLst/>
            <a:rect l="l" t="t" r="r" b="b"/>
            <a:pathLst>
              <a:path w="1" h="384">
                <a:moveTo>
                  <a:pt x="0" y="3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21640" y="2247840"/>
            <a:ext cx="596880" cy="1800"/>
          </a:xfrm>
          <a:custGeom>
            <a:avLst/>
            <a:gdLst/>
            <a:ahLst/>
            <a:rect l="l" t="t" r="r" b="b"/>
            <a:pathLst>
              <a:path w="376" h="1">
                <a:moveTo>
                  <a:pt x="376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80360" y="522432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91400">
            <a:off x="7692840" y="5295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09080" y="54054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2000" y="609444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296200">
            <a:off x="8051400" y="614844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32760" y="60213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inding the de9im of polygon/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egment/segment) helps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/s) helps for real intersection of two segments (interior/inter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boundary touch it always gives the same result (--1-001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9:55:47Z</dcterms:modified>
  <cp:revision>75</cp:revision>
  <dc:subject/>
  <dc:title>Slide 1</dc:title>
</cp:coreProperties>
</file>